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wmf" ContentType="image/x-wmf"/>
  <Override PartName="/ppt/media/image5.png" ContentType="image/png"/>
  <Override PartName="/ppt/media/image10.png" ContentType="image/png"/>
  <Override PartName="/ppt/media/image6.jpeg" ContentType="image/jpeg"/>
  <Override PartName="/ppt/media/image7.png" ContentType="image/png"/>
  <Override PartName="/ppt/media/image8.jpeg" ContentType="image/jpeg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</p:sldMasterIdLst>
  <p:sldIdLst>
    <p:sldId id="256" r:id="rId31"/>
    <p:sldId id="257" r:id="rId32"/>
    <p:sldId id="258" r:id="rId33"/>
    <p:sldId id="259" r:id="rId34"/>
    <p:sldId id="260" r:id="rId35"/>
    <p:sldId id="261" r:id="rId36"/>
    <p:sldId id="262" r:id="rId37"/>
    <p:sldId id="263" r:id="rId38"/>
    <p:sldId id="264" r:id="rId39"/>
  </p:sldIdLst>
  <p:sldSz cx="9144000" cy="6858000"/>
  <p:notesSz cx="6804025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" Target="slides/slide1.xml"/><Relationship Id="rId32" Type="http://schemas.openxmlformats.org/officeDocument/2006/relationships/slide" Target="slides/slide2.xml"/><Relationship Id="rId33" Type="http://schemas.openxmlformats.org/officeDocument/2006/relationships/slide" Target="slides/slide3.xml"/><Relationship Id="rId34" Type="http://schemas.openxmlformats.org/officeDocument/2006/relationships/slide" Target="slides/slide4.xml"/><Relationship Id="rId35" Type="http://schemas.openxmlformats.org/officeDocument/2006/relationships/slide" Target="slides/slide5.xml"/><Relationship Id="rId36" Type="http://schemas.openxmlformats.org/officeDocument/2006/relationships/slide" Target="slides/slide6.xml"/><Relationship Id="rId37" Type="http://schemas.openxmlformats.org/officeDocument/2006/relationships/slide" Target="slides/slide7.xml"/><Relationship Id="rId38" Type="http://schemas.openxmlformats.org/officeDocument/2006/relationships/slide" Target="slides/slide8.xml"/><Relationship Id="rId39" Type="http://schemas.openxmlformats.org/officeDocument/2006/relationships/slide" Target="slides/slide9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1B429F-D80E-45B6-AA94-BC26819BC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4E2E3E-C572-4C7E-92EA-A69897AD9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6588C5-6B46-4A22-BEE2-5E729C091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A8B6C8-BCE9-42FB-9AB5-2247906CE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D53D59-AC2B-4392-8030-BC20223E8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8D15B8-73BD-4FE6-8514-795D92685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46B4F4-B0A9-46D2-955E-70DB35D69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59AD7C-14B7-4A66-B6E6-CA8CED7AF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1FC38E-7EDD-40DA-AE2F-25319668C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B4DBE3-166C-4C77-8AB6-23B8FA8F8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E0FE24-1229-44F2-8BD5-323F4D33E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3CC7A1-FEDA-49D0-AFD3-C46292768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9B8F02-1070-445F-811A-D11CB4980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2423BA-9AFD-43C2-AE78-CA52CFD3B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FD7A3F-412B-4775-AFBD-AE6DCE871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F4BCBC-31DE-4AC0-BC12-7C3C69A9C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76919E-E73E-45B0-AA65-E229559FD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7D2513-3DC1-4483-9162-AA3824411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3FDD81-16F9-4B74-BC2D-5E3198D0E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AF3F51-A781-4B4F-A410-82553A372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007A07-69BC-4978-B556-1FCB06E98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44541C-7A7F-4FA1-A15A-03D4B9027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8857E5-BAA1-466C-BC3F-B8591C46A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9298E7-29C7-4D2E-86D5-6143F58A3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99160D-57A9-4D3A-A4B6-2164A1FAA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A2E58F-1D65-4EE7-A8F1-FD9E523FC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66928C-E22A-4945-A69A-540DE3EDB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4A0F43-DEF7-4B29-B5F3-7DBDDA63F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A5E9A0-2C93-47C2-A00F-185BA8528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7472DD-B088-4AB0-A9C0-5B892705E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C9C6-BC15-40B4-AEF2-79953FB0C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1EB678-578D-4710-A50F-22C01E957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B0E480-969C-45B8-97DD-F758CD55A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B71132-1CE3-41AA-9C98-798523286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D2569A-2BDA-46B4-9A6F-8B8BA36EC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2C4DD5-FDDE-44DC-B70F-5FB41E161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E55348-6753-4196-BA73-067595FA7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38CCD5-5505-42B0-9C11-7EC1185F2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E77EF7-430A-4B96-8C16-6BC8C1B8D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BE4626-AC91-453B-B347-8AD87483B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7CF34A-4783-4555-BDD0-FD51FE9DA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71FA-6FA6-4536-A636-C5D7628BB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712F2E-5D59-4766-AC12-B458E14D2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42FB9D-DE4E-4F4C-8F54-940566CCB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8D3491-9896-4154-BFC7-C49515729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36288D-C598-4F62-87A6-285709613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609FAD-8899-4D53-97E7-1F293CA4B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01771E-1BFF-4137-A35A-CD8704374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2E1F67-FC3F-4A92-ADDB-5DA7A9BB4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280574-8BCF-447D-ADB1-186E8C0AD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389783-FA31-40FE-8A82-81EDF8F44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43F4A7-8A4F-4685-91E4-7099B4248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D48F-2AF1-44AA-A7DA-E46C5C5E8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D5DC50-4975-470E-99F2-143EB8DC7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6B93A9-EB10-4C2D-8079-3928DF119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879CEC-850F-42BF-B2A9-24ECB2777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978CA2-A91E-4578-8133-4BBDF927E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AD4138-A873-4758-ADD7-BF480430B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70644F-9675-483D-B6FD-967E02C46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81E109-677A-4AB2-9445-F9AF2FB1C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F8C2D8-80C3-481C-A4DE-3117343BA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D7F38C-C7EF-4FD9-A6AD-2C29F1209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E13ACB-03FA-47AE-868F-8F1E19216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B8F0-7B97-47FA-86CF-F29F9A17E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1120DD-0409-4613-A47B-B262C1181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C6E0D5-7080-4932-AB83-72B2D7251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0E9BAC-1EFF-4C1B-B045-139CBF09F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4DCED5-EB5C-4EEA-9399-275160423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930E1D-E105-4F7F-9D54-469BF83B8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D96CAB-9D0C-49BE-B6AF-0DFEE1EA5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65226B-E722-4F71-B5DD-6568C792A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C515B6-038D-488C-9BDA-1D2EDACB7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9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9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3AB6D4-8A68-4823-A6F2-4D30C5836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A9D7A6-D00A-4FBD-B746-3AE8D1EF3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C4B1-87C5-43C3-BE6E-5A58B75BA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CA36C2-C7DC-4480-926A-BED78F1B5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B766E6-B9F7-4AB0-ABD9-F5B963B64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5E8293-4750-4B01-83EC-FD1447E58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424F0F2-AE6C-442E-B17B-020C0B080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42875D4-E328-434B-BE91-05F49E638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D77D1A-D2B9-4BFA-B51F-0E6D9DB51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066FBA-D7F8-41DD-AA10-AEFDBE19D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D1C5BF-16B8-4790-9206-9EC6E943D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4E1104A-1411-40D9-8F4F-5AE5494FD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73C7FE-BFBA-4086-9FC9-CC1B06126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BF50-1B8B-4283-97B6-AB8B433F9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98CD6A-7DD0-488E-BDBE-12BBB6457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FF3A971-977E-44B3-A630-60B1D4598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A81A509-0B40-48B2-B3BE-E5899CA83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6A61920-C36F-4AA6-A3CC-6393083D1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B33ED5D-8A5C-40B4-9F09-F44086B77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C7214E0-104D-4E11-96A8-1D185F1D4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07B1AF4-3221-442B-85CA-44EF11295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4EF50C7-3D2A-40E4-970B-9F51BF70E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1BA1F9E-A63E-41E5-971D-B193A0008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AD99782-669C-4B0C-9476-1B4662DC9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2E97-B34A-42A5-8545-4A5B97190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3E2A86A-321B-46E4-86ED-25EFE7A22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051E69E-B547-4CB8-856F-B9155E4E7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73C06A2-1819-4537-9EFE-38BED7863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2DD4FD9-166B-4876-98A2-A00CB7518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8923144-DF44-4E7C-AF51-2709F3904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540B141-6133-4066-B207-DC8826593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D411235-118D-4000-9B60-47C12618F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D6A1EBC-CA82-443E-AA92-098AB6022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B37AB0B-2D7A-47A0-A099-7EE480486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B52972C-1D4A-49E3-B68B-C479B7DE6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D860-752F-47C0-89CE-C1F376CD1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953757F-7843-47A8-BCEB-30E5C0226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2EBBE58-06E3-4978-88F6-9D09D4966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FCEA82B-3935-40DD-8C95-FA3FAFED5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32090F1-527A-42A2-B936-D524DC4CF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2E1CB1E-4E20-40B0-92CE-910A80037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DC033FD-79C9-48C6-AFEA-096193C30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46DFCD3-1D34-4C4E-9B32-C6B737BED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74CC0D8-EFBA-44F8-9620-7B0DE68EB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420435C-8A67-45ED-B3FB-0D8D72428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A34A2B7-ADF7-4428-B39A-BC6F2AA3F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4EE2-82C8-43A1-9C24-826716A00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461D027-C623-4FC0-942D-563DD1244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120B03E-2E79-4FCD-AD38-DF2E49B89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28239EF-93DC-4FAA-B700-75231D425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B5503E3-04F0-49A5-8311-15B735920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B414551-DCCB-477C-810A-8D70B9F34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472513E-5F6A-4B5A-AF7D-194AF87DC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C8B7E46-A3F7-4F98-86C5-31D081E64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135CC2E-E42A-492C-AB68-FC50DBF22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8A03C79-2639-443F-BE10-7BC153725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F533D1C-1812-4370-B571-0B970670E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EB40-B32D-4429-B6A3-857D5429B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BBF9AD4-ECC0-48BA-A0DA-08EBCD449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E060558-E738-4BD4-B7C2-65D1E62F5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4032247-3AD0-4FD6-A687-FCBEFE4AC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B20C0FB-70CD-47C8-890D-43CF4D6C7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97F7888-EA94-4221-BAB6-BF7A99754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9745DFF-1F5D-47CF-B9FA-72766261E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C76B619-3A0D-45D7-A40B-149300A54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D921706-9B70-4E3C-9E03-BB25E1532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3C89BD2-A555-41C1-A722-35E779C6A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E176B47-33E3-4D13-A483-34951C832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4B67-87B2-4764-86BB-BCCD2635A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D2A5F49-9845-4756-83A8-FC046379D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A881676-AD1B-4830-B36C-EBFC8BE22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704A0D0-6BA9-4CCF-9D48-F3ED89C5B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F19FFF4-2DFE-4098-B83E-7524CB30B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F90A924-B5B1-4F58-A635-E0F380300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8931AFB-0678-472F-BD79-C66E31841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8CB36EE-C2A4-4CB7-9EF6-7C8163038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B19E34A-EA67-420B-A3FB-37E9A3DBA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719594B-D745-4492-97D2-9B0F72400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81D826F-CCD2-41B9-9315-FCBC9FECA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1F41-D2AD-4E96-B2B8-EEB8EB978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E0D0E3E-535D-46BE-AB84-536E0CC17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8007960-4119-4DF2-A51E-C6DDB2780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3893088-9E40-4F8A-8926-841E0EF4E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293F7DD-A612-4688-86A9-4D7D61D10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770EC93-1ECF-4E53-9A46-A4A787230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B13E9C4-3A43-4C58-8CC1-C6DF955E1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0371A38-8D25-42D7-89F3-68902CF51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DA7F89A-7844-452A-9BA9-C5F0E6EB4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9311E21-4C8E-49C6-BEDE-5BB217F55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6BEE1B8-794C-4004-A384-9026D72BD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41B2A-986A-4186-8407-5CD1F97C6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AAFCDD7-B840-49CA-91E2-C3A0B63FE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A4462F6-D7E8-4DD7-8FE1-8F6DB249D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75EC631-3A0E-4AFD-B413-D4FD3B6D4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ECF70B1-C238-4E60-A060-E2B2895D3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E326F98-154D-4857-B8D7-3372675A3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0CF7524-CE29-454C-9263-A92DF8D90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5D0A7A9-4171-491E-9050-297E73D7B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7B30683-9462-493F-8B13-9CD408B19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BAE3163-C5C0-4B73-9218-C3CBBB46C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2B6D4B2-39ED-420E-8BC2-F8FDBF067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05E93-1D58-44CD-9503-4FF15F0B4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77599C4-BD57-4BDD-B510-585312B4F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679D294-69C0-4FBA-BE87-E11AC4BCE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D116549-AC89-46DC-B7CD-A934E202B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BD492DC-C0E9-48DC-8F3B-65223A0DD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EB22A98-C877-4C56-8E02-533D5FFB4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A98D78A-CA10-42C9-963E-904EE7DC4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AE4B709-B22C-4B37-A37A-583D16EAE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3F57256-88AA-4947-8E65-BECDB650D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A310973-2097-4D61-833B-2B68F58B1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113F03B-25A8-4087-BAF6-29F98F29A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7ED00-2CE2-4369-B9A4-7E3520E0B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2805D01-F471-4410-B6DC-AD342FCE8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22C9277-41E3-46EA-BA1B-EF1D3B93C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0EDD0DD-9494-4F8B-80AB-A9057FDC5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7F65FE6-21E7-4F46-B221-AACB2FF34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041D10F-9B00-43E3-B0D5-D5DC167FD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9C4BCA7-5661-4CA8-A3D7-5A9DDE98C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3A2BE7A-7216-4136-B508-C12DCA73C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20ED24E-3BD4-469C-831D-100592427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447BAF2-A2F4-4F49-99FD-46EB60FF9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E180ED9-5A08-41D9-8BE6-FFF3D45FD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5A979-0A64-4838-9392-175FFC968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3B1397C-6E46-47DF-BF3A-BDBB277DE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5AF71D3-ECA1-483D-B93F-12A8D5370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659F18E-5027-49F0-977B-481228678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BA52A88-235B-464A-8AED-3BF8B4CCA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BF8B9EA-9A7F-4111-968B-F5937C609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32DD19C-0176-4FCD-9B04-6E3661209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00F99CD-3537-464E-A0B3-9E63DC109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2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A473F91-94D3-40D0-AC49-840D1799E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3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3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F0FD0E1-4D5A-4487-96CA-440AED9E7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B051933-A8DE-40C2-82C5-64014257B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85146-8EE8-4665-AA73-1BC477B8D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8AF78D1-B9FE-486B-A76D-E2B0569BB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633E393-DCB2-418A-82C0-ABE68D3E2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3364632-3076-46DC-AE45-557D5D282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8A45602-DA6A-4139-82D8-949DD2FB2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0D57B7B-6D41-4FCF-822D-2810F717C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B09DBB7-B0E6-49F3-ABEF-A06BC2F8B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FE8D839-9F47-47CD-B1B3-FD7974DFA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B1475D3-023D-432D-A9B5-299EF3AD2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1201C1B-F13C-42EB-AB87-38929135E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333CE0C-EC00-4815-B329-1881D0B67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63079-2E81-4537-8D9A-5718B1153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DAC4A1B-D2EE-4FD7-9006-9C2252A13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0E218E0-19D0-4EA7-B46D-EFCBE7361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65D5D29-5C9F-4469-B6FF-85BD3869E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37A300F-08D1-4FEC-AA73-5FC6EED6A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C080E43-9291-4B90-8ED8-27E0524F3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3885F34-F8D7-4907-9933-4378553C7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2203BB7-0DC7-4F77-9F0A-EE4CE955F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D16F543-F551-4EA6-99B4-13E72F088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D4A6786-AA6E-4B86-A6CD-7CD5CFA47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BB55E66-CB6B-4A53-BF03-ABAF6E297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99F0B-FC78-42FB-8286-0962054A5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5ED1EAD-3E22-4BA6-BC38-06BC01B04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9C1B653-3C70-4AAC-AD18-BCAC564DB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3E248EC-C19F-4C00-982B-B466EEB3C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0E287A7-6496-40EA-B5B1-E9E9B126A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25F76CC-FA0F-4D45-B31F-6EA301B65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C9FDC3B-CB9A-47B7-BA19-088FFAE24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6C53AB3-34F9-4368-805D-364614BC4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2F48FC2-E563-4137-86FE-DC8192924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728244A-E181-491B-BCC0-22A8D2B8B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BC11E8A-17F3-4FB3-A69D-06846ED77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4939B-5AA6-48F9-8693-2B4DBE0F2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29806EC-6E38-469C-9371-C3C073EC4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BFEBF7E-170A-4BD1-906A-DE605A8EF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3B9D10E-ADE4-4694-8B71-E507A57D1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592CCD1-D814-4E04-9766-C4A3EAB73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B322DFF-A62B-423A-A580-1582954F0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FE035-C616-47D3-9D32-BD85D948D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7B9F8-E3DF-4BC6-9390-7A2CAD9AE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2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4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4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4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4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4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4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03D66-292E-4E52-8B06-DA02CE2AE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2AF45-7AE2-4589-B2A0-3095A5543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964476-9BCA-47AE-A88B-D4EA77B94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2E8A81-D726-4B4B-857B-6419FD356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5CE9BB-2621-4962-AFCE-CC6EC9E29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B59EE3-908B-4BA4-9CF6-AF7BAB88E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25436B-E684-490D-9F71-02E6DC787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4D8725-329D-4150-B99B-C149C5988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F276CA-917C-4980-BA0B-1F6CBF885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18A59D-4BB1-47D2-B641-EEC8AE130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5930D6-38BD-42B5-B393-DAD8CB34B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DFB712-B0E7-4AC7-9753-BE361BCFA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EC8F1D-3C8B-46A8-865E-B74D8759A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7E8BC7-D586-46C8-B547-B779945D4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539F0A-1003-41A4-92E5-D1DCBFF91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F4BB9A-DEC8-452C-91A0-645863C7C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E8D8E7-C61F-4522-845A-33C5C3F15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22759D-6155-469F-B686-D4FB0685B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2726B6-91AE-48FC-B27A-B71CED0AD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F8B723-4E75-4728-8910-E28F604C8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974214-B731-4BBA-91F0-285C2317D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FA0A38-CB94-4EEC-92A0-53E34DF9D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46D1E1-041F-4735-9D07-812668D9E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778B2C-66F3-4E65-B2E2-BA3C457D5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45D928-7B3D-4661-B564-F72045429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3397B7-2298-48EC-91E8-549421603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A19043-13B4-4928-9ACC-3B327C354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1C0763-FFC3-4978-9EEE-179208F85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5B36BF-75A4-4AD3-9364-810D28ADD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456D7E-1455-4729-8CFC-730D714F8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E4A93A-2461-4880-BB74-355E58BD5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5CCC6B-ACAF-4DA1-9E4D-3913515DD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80EC18-8A07-49B7-B124-FCD87D09D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1A943A-1B48-45C7-AB6C-31E2106C1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E93406-F177-4F72-B7EE-FB6C693D6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2A8ED3-44AE-40C4-9DA4-D11CD4F69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DC59EA-40BD-438A-9DD8-3D96CCC07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9B47F5-CA10-49B5-B6FC-3AF612751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36D5F7-8AC0-49C2-9532-7FDE290CC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059A1C-FCF0-4563-A908-A6E753310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947BD1-023C-4CF4-8B13-B1FE24C0B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36E943-58FE-4EF4-A105-208BECC1D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9FFE48-4700-4783-B8CA-40258C4E7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757AEB-8131-4D92-BF9E-EDB7E9F6B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F60BA6-E3B3-46C9-AF4A-F82531766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02CA3A-D626-4E48-85CA-A8C8E40B5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3E3147-E73E-466D-B797-B903F2C16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38BDAF-19C3-4EF4-817C-B92D0E854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39ABD5-EC90-4813-A1F3-66DC57FB4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A12C17-A0C9-4BE4-A19F-EC636EA6B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F86C38-E427-4971-94BD-C3EBB739C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B61371-4AD8-44DD-B67E-6E532A982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AAF46E-DF9F-41A5-89D5-DA41E935A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90B61E-C8B5-441A-8C10-0DB00CF24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A4E29D-4432-4C0B-AA93-CF0A5BC07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547E78-2800-4B2C-81E8-900140FF8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0F06A2-58CD-4451-8C8A-BA666B455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A6E7CC-89F8-4D41-9F5B-273AD5F31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4DD245-EDF8-4D8D-B62B-4F71F4FC5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C6E29C-2672-4685-B049-26F973CE8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CCCFAB-891B-485B-8EE0-6E6028842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01C4EB-52CF-4EE1-AB60-45910B61F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E45FA3-DE51-4DD2-8DF9-E52CAC617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BD4E0B-72D0-4F69-B82A-2818011EC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526E6A-4464-44BF-8358-8D3A69810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jpe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jpe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3.jpe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3.jpe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jpe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3.jpe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jpe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3.jpe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3.jpe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3.jpe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3.jpe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3.jpe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3.jpe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37.xml"/><Relationship Id="rId6" Type="http://schemas.openxmlformats.org/officeDocument/2006/relationships/slideLayout" Target="../slideLayouts/slideLayout338.xml"/><Relationship Id="rId7" Type="http://schemas.openxmlformats.org/officeDocument/2006/relationships/slideLayout" Target="../slideLayouts/slideLayout339.xml"/><Relationship Id="rId8" Type="http://schemas.openxmlformats.org/officeDocument/2006/relationships/slideLayout" Target="../slideLayouts/slideLayout340.xml"/><Relationship Id="rId9" Type="http://schemas.openxmlformats.org/officeDocument/2006/relationships/slideLayout" Target="../slideLayouts/slideLayout341.xml"/><Relationship Id="rId10" Type="http://schemas.openxmlformats.org/officeDocument/2006/relationships/slideLayout" Target="../slideLayouts/slideLayout342.xml"/><Relationship Id="rId11" Type="http://schemas.openxmlformats.org/officeDocument/2006/relationships/slideLayout" Target="../slideLayouts/slideLayout343.xml"/><Relationship Id="rId12" Type="http://schemas.openxmlformats.org/officeDocument/2006/relationships/slideLayout" Target="../slideLayouts/slideLayout344.xml"/><Relationship Id="rId13" Type="http://schemas.openxmlformats.org/officeDocument/2006/relationships/slideLayout" Target="../slideLayouts/slideLayout345.xml"/><Relationship Id="rId14" Type="http://schemas.openxmlformats.org/officeDocument/2006/relationships/slideLayout" Target="../slideLayouts/slideLayout346.xml"/><Relationship Id="rId15" Type="http://schemas.openxmlformats.org/officeDocument/2006/relationships/slideLayout" Target="../slideLayouts/slideLayout347.xml"/><Relationship Id="rId16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jpe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jpe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4"/>
          <p:cNvSpPr/>
          <p:nvPr/>
        </p:nvSpPr>
        <p:spPr>
          <a:xfrm>
            <a:off x="0" y="0"/>
            <a:ext cx="9144000" cy="754200"/>
          </a:xfrm>
          <a:prstGeom prst="rect">
            <a:avLst/>
          </a:prstGeom>
          <a:solidFill>
            <a:srgbClr val="42a6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2" descr=""/>
          <p:cNvPicPr/>
          <p:nvPr/>
        </p:nvPicPr>
        <p:blipFill>
          <a:blip r:embed="rId2"/>
          <a:stretch/>
        </p:blipFill>
        <p:spPr>
          <a:xfrm>
            <a:off x="3780000" y="57240"/>
            <a:ext cx="1620720" cy="12492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3" descr=""/>
          <p:cNvPicPr/>
          <p:nvPr/>
        </p:nvPicPr>
        <p:blipFill>
          <a:blip r:embed="rId3"/>
          <a:stretch/>
        </p:blipFill>
        <p:spPr>
          <a:xfrm>
            <a:off x="4254480" y="6458040"/>
            <a:ext cx="611280" cy="407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12408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Lucida Sans"/>
              </a:rPr>
              <a:t>Click to edit the title text format</a:t>
            </a:r>
            <a:endParaRPr b="1" lang="en-US" sz="3200" spc="-1" strike="noStrike">
              <a:solidFill>
                <a:srgbClr val="ffc000"/>
              </a:solidFill>
              <a:latin typeface="Lucida San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dt" idx="25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bcbcbc"/>
                </a:solidFill>
                <a:latin typeface="Book Antiqua"/>
              </a:rPr>
              <a:t>26.6.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ftr" idx="26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bcbcbc"/>
                </a:solidFill>
                <a:latin typeface="Book Antiqua"/>
              </a:rPr>
              <a:t>EIP Seminar Madr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sldNum" idx="27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6B6AA-DADC-4CC2-A2A4-6C657FC4B77C}" type="slidenum">
              <a:rPr b="0" lang="sl-SI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TextBox 7"/>
          <p:cNvSpPr/>
          <p:nvPr/>
        </p:nvSpPr>
        <p:spPr>
          <a:xfrm>
            <a:off x="961920" y="708120"/>
            <a:ext cx="19573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700" spc="-1" strike="noStrike">
                <a:solidFill>
                  <a:srgbClr val="ffffff"/>
                </a:solidFill>
                <a:latin typeface="Republika"/>
                <a:ea typeface="Republika"/>
              </a:rPr>
              <a:t>REPUBLIC OF SLOVENI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Republika"/>
                <a:ea typeface="Republika"/>
              </a:rPr>
              <a:t>MINISTRY OF AGRICULTURE</a:t>
            </a:r>
            <a:r>
              <a:rPr b="1" lang="sl-SI" sz="700" spc="-1" strike="noStrike">
                <a:solidFill>
                  <a:srgbClr val="ffffff"/>
                </a:solidFill>
                <a:latin typeface="Republika"/>
                <a:ea typeface="Republika"/>
              </a:rPr>
              <a:t> AND ENVIRONMEN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Picture 9" descr="grb moder za 10 pt.wmf"/>
          <p:cNvPicPr/>
          <p:nvPr/>
        </p:nvPicPr>
        <p:blipFill>
          <a:blip r:embed="rId3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12408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Lucida Sans"/>
              </a:rPr>
              <a:t>Click to edit the title text format</a:t>
            </a:r>
            <a:endParaRPr b="1" lang="en-US" sz="3200" spc="-1" strike="noStrike">
              <a:solidFill>
                <a:srgbClr val="ffc000"/>
              </a:solidFill>
              <a:latin typeface="Lucida San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 type="dt" idx="28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bcbcbc"/>
                </a:solidFill>
                <a:latin typeface="Book Antiqua"/>
              </a:rPr>
              <a:t>26.6.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 type="ftr" idx="29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bcbcbc"/>
                </a:solidFill>
                <a:latin typeface="Book Antiqua"/>
              </a:rPr>
              <a:t>EIP Seminar Madr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 type="sldNum" idx="30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2C130-8790-4F4F-90AE-C909DAEF6EFD}" type="slidenum">
              <a:rPr b="0" lang="sl-SI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TextBox 7"/>
          <p:cNvSpPr/>
          <p:nvPr/>
        </p:nvSpPr>
        <p:spPr>
          <a:xfrm>
            <a:off x="961920" y="708120"/>
            <a:ext cx="19573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700" spc="-1" strike="noStrike">
                <a:solidFill>
                  <a:srgbClr val="ffffff"/>
                </a:solidFill>
                <a:latin typeface="Republika"/>
                <a:ea typeface="Republika"/>
              </a:rPr>
              <a:t>REPUBLIC OF SLOVENI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Republika"/>
                <a:ea typeface="Republika"/>
              </a:rPr>
              <a:t>MINISTRY OF AGRICULTURE</a:t>
            </a:r>
            <a:r>
              <a:rPr b="1" lang="sl-SI" sz="700" spc="-1" strike="noStrike">
                <a:solidFill>
                  <a:srgbClr val="ffffff"/>
                </a:solidFill>
                <a:latin typeface="Republika"/>
                <a:ea typeface="Republika"/>
              </a:rPr>
              <a:t> AND ENVIRONMEN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Picture 9" descr="grb moder za 10 pt.wmf"/>
          <p:cNvPicPr/>
          <p:nvPr/>
        </p:nvPicPr>
        <p:blipFill>
          <a:blip r:embed="rId3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12408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Lucida Sans"/>
              </a:rPr>
              <a:t>Click to edit the title text format</a:t>
            </a:r>
            <a:endParaRPr b="1" lang="en-US" sz="3200" spc="-1" strike="noStrike">
              <a:solidFill>
                <a:srgbClr val="ffc000"/>
              </a:solidFill>
              <a:latin typeface="Lucida Sans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dt" idx="3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bcbcbc"/>
                </a:solidFill>
                <a:latin typeface="Book Antiqua"/>
              </a:rPr>
              <a:t>26.6.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ftr" idx="3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bcbcbc"/>
                </a:solidFill>
                <a:latin typeface="Book Antiqua"/>
              </a:rPr>
              <a:t>EIP Seminar Madr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 type="sldNum" idx="3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E8B6E-0EB8-41C0-B6D3-148D1EA3DAF2}" type="slidenum">
              <a:rPr b="0" lang="sl-SI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7"/>
          <p:cNvSpPr/>
          <p:nvPr/>
        </p:nvSpPr>
        <p:spPr>
          <a:xfrm>
            <a:off x="961920" y="708120"/>
            <a:ext cx="19573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700" spc="-1" strike="noStrike">
                <a:solidFill>
                  <a:srgbClr val="ffffff"/>
                </a:solidFill>
                <a:latin typeface="Republika"/>
                <a:ea typeface="Republika"/>
              </a:rPr>
              <a:t>REPUBLIC OF SLOVENI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Republika"/>
                <a:ea typeface="Republika"/>
              </a:rPr>
              <a:t>MINISTRY OF AGRICULTURE</a:t>
            </a:r>
            <a:r>
              <a:rPr b="1" lang="sl-SI" sz="700" spc="-1" strike="noStrike">
                <a:solidFill>
                  <a:srgbClr val="ffffff"/>
                </a:solidFill>
                <a:latin typeface="Republika"/>
                <a:ea typeface="Republika"/>
              </a:rPr>
              <a:t> AND ENVIRONMEN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5" name="Picture 9" descr="grb moder za 10 pt.wmf"/>
          <p:cNvPicPr/>
          <p:nvPr/>
        </p:nvPicPr>
        <p:blipFill>
          <a:blip r:embed="rId3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312408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Lucida Sans"/>
              </a:rPr>
              <a:t>Click to edit the title text format</a:t>
            </a:r>
            <a:endParaRPr b="1" lang="en-US" sz="3200" spc="-1" strike="noStrike">
              <a:solidFill>
                <a:srgbClr val="ffc000"/>
              </a:solidFill>
              <a:latin typeface="Lucida San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 type="dt" idx="3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bcbcbc"/>
                </a:solidFill>
                <a:latin typeface="Book Antiqua"/>
              </a:rPr>
              <a:t>26.6.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 type="ftr" idx="3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bcbcbc"/>
                </a:solidFill>
                <a:latin typeface="Book Antiqua"/>
              </a:rPr>
              <a:t>EIP Seminar Madr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 type="sldNum" idx="3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511D0-B647-4545-ACF7-812F0B333705}" type="slidenum">
              <a:rPr b="0" lang="sl-SI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7"/>
          <p:cNvSpPr/>
          <p:nvPr/>
        </p:nvSpPr>
        <p:spPr>
          <a:xfrm>
            <a:off x="961920" y="708120"/>
            <a:ext cx="19573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700" spc="-1" strike="noStrike">
                <a:solidFill>
                  <a:srgbClr val="ffffff"/>
                </a:solidFill>
                <a:latin typeface="Republika"/>
                <a:ea typeface="Republika"/>
              </a:rPr>
              <a:t>REPUBLIC OF SLOVENI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Republika"/>
                <a:ea typeface="Republika"/>
              </a:rPr>
              <a:t>MINISTRY OF AGRICULTURE</a:t>
            </a:r>
            <a:r>
              <a:rPr b="1" lang="sl-SI" sz="700" spc="-1" strike="noStrike">
                <a:solidFill>
                  <a:srgbClr val="ffffff"/>
                </a:solidFill>
                <a:latin typeface="Republika"/>
                <a:ea typeface="Republika"/>
              </a:rPr>
              <a:t> AND ENVIRONMEN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9" descr="grb moder za 10 pt.wmf"/>
          <p:cNvPicPr/>
          <p:nvPr/>
        </p:nvPicPr>
        <p:blipFill>
          <a:blip r:embed="rId3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312408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Lucida Sans"/>
              </a:rPr>
              <a:t>Click to edit the title text format</a:t>
            </a:r>
            <a:endParaRPr b="1" lang="en-US" sz="3200" spc="-1" strike="noStrike">
              <a:solidFill>
                <a:srgbClr val="ffc000"/>
              </a:solidFill>
              <a:latin typeface="Lucida Sans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 type="dt" idx="37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bcbcbc"/>
                </a:solidFill>
                <a:latin typeface="Book Antiqua"/>
              </a:rPr>
              <a:t>26.6.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 type="ftr" idx="38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bcbcbc"/>
                </a:solidFill>
                <a:latin typeface="Book Antiqua"/>
              </a:rPr>
              <a:t>EIP Seminar Madr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 type="sldNum" idx="39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CB795-6B7F-4500-B6D3-B8586442B802}" type="slidenum">
              <a:rPr b="0" lang="sl-SI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Box 7"/>
          <p:cNvSpPr/>
          <p:nvPr/>
        </p:nvSpPr>
        <p:spPr>
          <a:xfrm>
            <a:off x="961920" y="708120"/>
            <a:ext cx="19573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700" spc="-1" strike="noStrike">
                <a:solidFill>
                  <a:srgbClr val="ffffff"/>
                </a:solidFill>
                <a:latin typeface="Republika"/>
                <a:ea typeface="Republika"/>
              </a:rPr>
              <a:t>REPUBLIC OF SLOVENI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Republika"/>
                <a:ea typeface="Republika"/>
              </a:rPr>
              <a:t>MINISTRY OF AGRICULTURE</a:t>
            </a:r>
            <a:r>
              <a:rPr b="1" lang="sl-SI" sz="700" spc="-1" strike="noStrike">
                <a:solidFill>
                  <a:srgbClr val="ffffff"/>
                </a:solidFill>
                <a:latin typeface="Republika"/>
                <a:ea typeface="Republika"/>
              </a:rPr>
              <a:t> AND ENVIRONMEN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Picture 9" descr="grb moder za 10 pt.wmf"/>
          <p:cNvPicPr/>
          <p:nvPr/>
        </p:nvPicPr>
        <p:blipFill>
          <a:blip r:embed="rId3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312408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Lucida Sans"/>
              </a:rPr>
              <a:t>Click to edit the title text format</a:t>
            </a:r>
            <a:endParaRPr b="1" lang="en-US" sz="3200" spc="-1" strike="noStrike">
              <a:solidFill>
                <a:srgbClr val="ffc000"/>
              </a:solidFill>
              <a:latin typeface="Lucida Sans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 type="dt" idx="40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bcbcbc"/>
                </a:solidFill>
                <a:latin typeface="Book Antiqua"/>
              </a:rPr>
              <a:t>26.6.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 type="ftr" idx="41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bcbcbc"/>
                </a:solidFill>
                <a:latin typeface="Book Antiqua"/>
              </a:rPr>
              <a:t>EIP Seminar Madr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 type="sldNum" idx="42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E243B-B01B-4EA7-9207-2FE8038F1D11}" type="slidenum">
              <a:rPr b="0" lang="sl-SI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Box 7"/>
          <p:cNvSpPr/>
          <p:nvPr/>
        </p:nvSpPr>
        <p:spPr>
          <a:xfrm>
            <a:off x="961920" y="708120"/>
            <a:ext cx="19573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700" spc="-1" strike="noStrike">
                <a:solidFill>
                  <a:srgbClr val="ffffff"/>
                </a:solidFill>
                <a:latin typeface="Republika"/>
                <a:ea typeface="Republika"/>
              </a:rPr>
              <a:t>REPUBLIC OF SLOVENI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Republika"/>
                <a:ea typeface="Republika"/>
              </a:rPr>
              <a:t>MINISTRY OF AGRICULTURE</a:t>
            </a:r>
            <a:r>
              <a:rPr b="1" lang="sl-SI" sz="700" spc="-1" strike="noStrike">
                <a:solidFill>
                  <a:srgbClr val="ffffff"/>
                </a:solidFill>
                <a:latin typeface="Republika"/>
                <a:ea typeface="Republika"/>
              </a:rPr>
              <a:t> AND ENVIRONMEN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Picture 9" descr="grb moder za 10 pt.wmf"/>
          <p:cNvPicPr/>
          <p:nvPr/>
        </p:nvPicPr>
        <p:blipFill>
          <a:blip r:embed="rId3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312408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Lucida Sans"/>
              </a:rPr>
              <a:t>Click to edit the title text format</a:t>
            </a:r>
            <a:endParaRPr b="1" lang="en-US" sz="3200" spc="-1" strike="noStrike">
              <a:solidFill>
                <a:srgbClr val="ffc000"/>
              </a:solidFill>
              <a:latin typeface="Lucida Sans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 type="dt" idx="43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bcbcbc"/>
                </a:solidFill>
                <a:latin typeface="Book Antiqua"/>
              </a:rPr>
              <a:t>26.6.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 type="ftr" idx="44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bcbcbc"/>
                </a:solidFill>
                <a:latin typeface="Book Antiqua"/>
              </a:rPr>
              <a:t>EIP Seminar Madr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 type="sldNum" idx="45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2B363-41DE-4F87-ACDD-26801EBCFBAF}" type="slidenum">
              <a:rPr b="0" lang="sl-SI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Box 7"/>
          <p:cNvSpPr/>
          <p:nvPr/>
        </p:nvSpPr>
        <p:spPr>
          <a:xfrm>
            <a:off x="961920" y="708120"/>
            <a:ext cx="19573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700" spc="-1" strike="noStrike">
                <a:solidFill>
                  <a:srgbClr val="ffffff"/>
                </a:solidFill>
                <a:latin typeface="Republika"/>
                <a:ea typeface="Republika"/>
              </a:rPr>
              <a:t>REPUBLIC OF SLOVENI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Republika"/>
                <a:ea typeface="Republika"/>
              </a:rPr>
              <a:t>MINISTRY OF AGRICULTURE</a:t>
            </a:r>
            <a:r>
              <a:rPr b="1" lang="sl-SI" sz="700" spc="-1" strike="noStrike">
                <a:solidFill>
                  <a:srgbClr val="ffffff"/>
                </a:solidFill>
                <a:latin typeface="Republika"/>
                <a:ea typeface="Republika"/>
              </a:rPr>
              <a:t> AND ENVIRONMEN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7" name="Picture 9" descr="grb moder za 10 pt.wmf"/>
          <p:cNvPicPr/>
          <p:nvPr/>
        </p:nvPicPr>
        <p:blipFill>
          <a:blip r:embed="rId3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312408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Lucida Sans"/>
              </a:rPr>
              <a:t>Click to edit the title text format</a:t>
            </a:r>
            <a:endParaRPr b="1" lang="en-US" sz="3200" spc="-1" strike="noStrike">
              <a:solidFill>
                <a:srgbClr val="ffc000"/>
              </a:solidFill>
              <a:latin typeface="Lucida San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 type="dt" idx="46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bcbcbc"/>
                </a:solidFill>
                <a:latin typeface="Book Antiqua"/>
              </a:rPr>
              <a:t>26.6.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 type="ftr" idx="47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bcbcbc"/>
                </a:solidFill>
                <a:latin typeface="Book Antiqua"/>
              </a:rPr>
              <a:t>EIP Seminar Madr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5"/>
          <p:cNvSpPr>
            <a:spLocks noGrp="1"/>
          </p:cNvSpPr>
          <p:nvPr>
            <p:ph type="sldNum" idx="48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41757-2BAE-4DA1-8D63-F61A0BBCA465}" type="slidenum">
              <a:rPr b="0" lang="sl-SI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TextBox 7"/>
          <p:cNvSpPr/>
          <p:nvPr/>
        </p:nvSpPr>
        <p:spPr>
          <a:xfrm>
            <a:off x="961920" y="708120"/>
            <a:ext cx="19573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700" spc="-1" strike="noStrike">
                <a:solidFill>
                  <a:srgbClr val="ffffff"/>
                </a:solidFill>
                <a:latin typeface="Republika"/>
                <a:ea typeface="Republika"/>
              </a:rPr>
              <a:t>REPUBLIC OF SLOVENI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Republika"/>
                <a:ea typeface="Republika"/>
              </a:rPr>
              <a:t>MINISTRY OF AGRICULTURE</a:t>
            </a:r>
            <a:r>
              <a:rPr b="1" lang="sl-SI" sz="700" spc="-1" strike="noStrike">
                <a:solidFill>
                  <a:srgbClr val="ffffff"/>
                </a:solidFill>
                <a:latin typeface="Republika"/>
                <a:ea typeface="Republika"/>
              </a:rPr>
              <a:t> AND ENVIRONMEN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0" name="Picture 9" descr="grb moder za 10 pt.wmf"/>
          <p:cNvPicPr/>
          <p:nvPr/>
        </p:nvPicPr>
        <p:blipFill>
          <a:blip r:embed="rId3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312408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Lucida Sans"/>
              </a:rPr>
              <a:t>Click to edit the title text format</a:t>
            </a:r>
            <a:endParaRPr b="1" lang="en-US" sz="3200" spc="-1" strike="noStrike">
              <a:solidFill>
                <a:srgbClr val="ffc000"/>
              </a:solidFill>
              <a:latin typeface="Lucida Sans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 type="dt" idx="49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bcbcbc"/>
                </a:solidFill>
                <a:latin typeface="Book Antiqua"/>
              </a:rPr>
              <a:t>26.6.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 type="ftr" idx="50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bcbcbc"/>
                </a:solidFill>
                <a:latin typeface="Book Antiqua"/>
              </a:rPr>
              <a:t>EIP Seminar Madr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 type="sldNum" idx="51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85E16-4EA1-4F8A-8610-929B8E65632D}" type="slidenum">
              <a:rPr b="0" lang="sl-SI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TextBox 7"/>
          <p:cNvSpPr/>
          <p:nvPr/>
        </p:nvSpPr>
        <p:spPr>
          <a:xfrm>
            <a:off x="961920" y="708120"/>
            <a:ext cx="19573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700" spc="-1" strike="noStrike">
                <a:solidFill>
                  <a:srgbClr val="ffffff"/>
                </a:solidFill>
                <a:latin typeface="Republika"/>
                <a:ea typeface="Republika"/>
              </a:rPr>
              <a:t>REPUBLIC OF SLOVENI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Republika"/>
                <a:ea typeface="Republika"/>
              </a:rPr>
              <a:t>MINISTRY OF AGRICULTURE</a:t>
            </a:r>
            <a:r>
              <a:rPr b="1" lang="sl-SI" sz="700" spc="-1" strike="noStrike">
                <a:solidFill>
                  <a:srgbClr val="ffffff"/>
                </a:solidFill>
                <a:latin typeface="Republika"/>
                <a:ea typeface="Republika"/>
              </a:rPr>
              <a:t> AND ENVIRONMEN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3" name="Picture 9" descr="grb moder za 10 pt.wmf"/>
          <p:cNvPicPr/>
          <p:nvPr/>
        </p:nvPicPr>
        <p:blipFill>
          <a:blip r:embed="rId3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12408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Lucida Sans"/>
              </a:rPr>
              <a:t>Click to edit the title text format</a:t>
            </a:r>
            <a:endParaRPr b="1" lang="en-US" sz="3200" spc="-1" strike="noStrike">
              <a:solidFill>
                <a:srgbClr val="ffc000"/>
              </a:solidFill>
              <a:latin typeface="Lucida Sans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 type="dt" idx="52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bcbcbc"/>
                </a:solidFill>
                <a:latin typeface="Book Antiqua"/>
              </a:rPr>
              <a:t>26.6.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 type="ftr" idx="53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bcbcbc"/>
                </a:solidFill>
                <a:latin typeface="Book Antiqua"/>
              </a:rPr>
              <a:t>EIP Seminar Madr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5"/>
          <p:cNvSpPr>
            <a:spLocks noGrp="1"/>
          </p:cNvSpPr>
          <p:nvPr>
            <p:ph type="sldNum" idx="54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668A3-0FDA-4CE9-9D53-30FA20415D2B}" type="slidenum">
              <a:rPr b="0" lang="sl-SI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TextBox 7"/>
          <p:cNvSpPr/>
          <p:nvPr/>
        </p:nvSpPr>
        <p:spPr>
          <a:xfrm>
            <a:off x="961920" y="708120"/>
            <a:ext cx="19573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700" spc="-1" strike="noStrike">
                <a:solidFill>
                  <a:srgbClr val="ffffff"/>
                </a:solidFill>
                <a:latin typeface="Republika"/>
                <a:ea typeface="Republika"/>
              </a:rPr>
              <a:t>REPUBLIC OF SLOVENI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Republika"/>
                <a:ea typeface="Republika"/>
              </a:rPr>
              <a:t>MINISTRY OF AGRICULTURE</a:t>
            </a:r>
            <a:r>
              <a:rPr b="1" lang="sl-SI" sz="700" spc="-1" strike="noStrike">
                <a:solidFill>
                  <a:srgbClr val="ffffff"/>
                </a:solidFill>
                <a:latin typeface="Republika"/>
                <a:ea typeface="Republika"/>
              </a:rPr>
              <a:t> AND ENVIRONMEN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6" name="Picture 9" descr="grb moder za 10 pt.wmf"/>
          <p:cNvPicPr/>
          <p:nvPr/>
        </p:nvPicPr>
        <p:blipFill>
          <a:blip r:embed="rId3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12408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Lucida Sans"/>
              </a:rPr>
              <a:t>Click to edit the title text format</a:t>
            </a:r>
            <a:endParaRPr b="1" lang="en-US" sz="3200" spc="-1" strike="noStrike">
              <a:solidFill>
                <a:srgbClr val="ffc000"/>
              </a:solidFill>
              <a:latin typeface="Lucida San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bcbcbc"/>
                </a:solidFill>
                <a:latin typeface="Book Antiqua"/>
              </a:rPr>
              <a:t>26.6.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bcbcbc"/>
                </a:solidFill>
                <a:latin typeface="Book Antiqua"/>
              </a:rPr>
              <a:t>EIP Seminar Madr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C6E28-A0D9-4575-8EAE-6241AAE64447}" type="slidenum">
              <a:rPr b="0" lang="sl-SI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Box 7"/>
          <p:cNvSpPr/>
          <p:nvPr/>
        </p:nvSpPr>
        <p:spPr>
          <a:xfrm>
            <a:off x="961920" y="708120"/>
            <a:ext cx="19573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700" spc="-1" strike="noStrike">
                <a:solidFill>
                  <a:srgbClr val="ffffff"/>
                </a:solidFill>
                <a:latin typeface="Republika"/>
                <a:ea typeface="Republika"/>
              </a:rPr>
              <a:t>REPUBLIC OF SLOVENI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Republika"/>
                <a:ea typeface="Republika"/>
              </a:rPr>
              <a:t>MINISTRY OF AGRICULTURE</a:t>
            </a:r>
            <a:r>
              <a:rPr b="1" lang="sl-SI" sz="700" spc="-1" strike="noStrike">
                <a:solidFill>
                  <a:srgbClr val="ffffff"/>
                </a:solidFill>
                <a:latin typeface="Republika"/>
                <a:ea typeface="Republika"/>
              </a:rPr>
              <a:t> AND ENVIRONMEN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9" descr="grb moder za 10 pt.wmf"/>
          <p:cNvPicPr/>
          <p:nvPr/>
        </p:nvPicPr>
        <p:blipFill>
          <a:blip r:embed="rId3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312408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Lucida Sans"/>
              </a:rPr>
              <a:t>Click to edit the title text format</a:t>
            </a:r>
            <a:endParaRPr b="1" lang="en-US" sz="3200" spc="-1" strike="noStrike">
              <a:solidFill>
                <a:srgbClr val="ffc000"/>
              </a:solidFill>
              <a:latin typeface="Lucida Sans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dt" idx="55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bcbcbc"/>
                </a:solidFill>
                <a:latin typeface="Book Antiqua"/>
              </a:rPr>
              <a:t>26.6.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 type="ftr" idx="56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bcbcbc"/>
                </a:solidFill>
                <a:latin typeface="Book Antiqua"/>
              </a:rPr>
              <a:t>EIP Seminar Madr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 type="sldNum" idx="57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1B8F9-FCD6-4528-BFCA-AFFB7D33A13B}" type="slidenum">
              <a:rPr b="0" lang="sl-SI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TextBox 7"/>
          <p:cNvSpPr/>
          <p:nvPr/>
        </p:nvSpPr>
        <p:spPr>
          <a:xfrm>
            <a:off x="961920" y="708120"/>
            <a:ext cx="19573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700" spc="-1" strike="noStrike">
                <a:solidFill>
                  <a:srgbClr val="ffffff"/>
                </a:solidFill>
                <a:latin typeface="Republika"/>
                <a:ea typeface="Republika"/>
              </a:rPr>
              <a:t>REPUBLIC OF SLOVENI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Republika"/>
                <a:ea typeface="Republika"/>
              </a:rPr>
              <a:t>MINISTRY OF AGRICULTURE</a:t>
            </a:r>
            <a:r>
              <a:rPr b="1" lang="sl-SI" sz="700" spc="-1" strike="noStrike">
                <a:solidFill>
                  <a:srgbClr val="ffffff"/>
                </a:solidFill>
                <a:latin typeface="Republika"/>
                <a:ea typeface="Republika"/>
              </a:rPr>
              <a:t> AND ENVIRONMEN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9" name="Picture 9" descr="grb moder za 10 pt.wmf"/>
          <p:cNvPicPr/>
          <p:nvPr/>
        </p:nvPicPr>
        <p:blipFill>
          <a:blip r:embed="rId3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312408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Lucida Sans"/>
              </a:rPr>
              <a:t>Click to edit the title text format</a:t>
            </a:r>
            <a:endParaRPr b="1" lang="en-US" sz="3200" spc="-1" strike="noStrike">
              <a:solidFill>
                <a:srgbClr val="ffc000"/>
              </a:solidFill>
              <a:latin typeface="Lucida Sans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 type="dt" idx="58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bcbcbc"/>
                </a:solidFill>
                <a:latin typeface="Book Antiqua"/>
              </a:rPr>
              <a:t>26.6.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 type="ftr" idx="59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bcbcbc"/>
                </a:solidFill>
                <a:latin typeface="Book Antiqua"/>
              </a:rPr>
              <a:t>EIP Seminar Madr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 type="sldNum" idx="60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81751-6475-4CE9-B475-32775C850D14}" type="slidenum">
              <a:rPr b="0" lang="sl-SI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TextBox 7"/>
          <p:cNvSpPr/>
          <p:nvPr/>
        </p:nvSpPr>
        <p:spPr>
          <a:xfrm>
            <a:off x="961920" y="708120"/>
            <a:ext cx="19573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700" spc="-1" strike="noStrike">
                <a:solidFill>
                  <a:srgbClr val="ffffff"/>
                </a:solidFill>
                <a:latin typeface="Republika"/>
                <a:ea typeface="Republika"/>
              </a:rPr>
              <a:t>REPUBLIC OF SLOVENI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Republika"/>
                <a:ea typeface="Republika"/>
              </a:rPr>
              <a:t>MINISTRY OF AGRICULTURE</a:t>
            </a:r>
            <a:r>
              <a:rPr b="1" lang="sl-SI" sz="700" spc="-1" strike="noStrike">
                <a:solidFill>
                  <a:srgbClr val="ffffff"/>
                </a:solidFill>
                <a:latin typeface="Republika"/>
                <a:ea typeface="Republika"/>
              </a:rPr>
              <a:t> AND ENVIRONMEN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2" name="Picture 9" descr="grb moder za 10 pt.wmf"/>
          <p:cNvPicPr/>
          <p:nvPr/>
        </p:nvPicPr>
        <p:blipFill>
          <a:blip r:embed="rId3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312408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Lucida Sans"/>
              </a:rPr>
              <a:t>Click to edit the title text format</a:t>
            </a:r>
            <a:endParaRPr b="1" lang="en-US" sz="3200" spc="-1" strike="noStrike">
              <a:solidFill>
                <a:srgbClr val="ffc000"/>
              </a:solidFill>
              <a:latin typeface="Lucida Sans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dt" idx="6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bcbcbc"/>
                </a:solidFill>
                <a:latin typeface="Book Antiqua"/>
              </a:rPr>
              <a:t>26.6.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 type="ftr" idx="6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bcbcbc"/>
                </a:solidFill>
                <a:latin typeface="Book Antiqua"/>
              </a:rPr>
              <a:t>EIP Seminar Madr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PlaceHolder 5"/>
          <p:cNvSpPr>
            <a:spLocks noGrp="1"/>
          </p:cNvSpPr>
          <p:nvPr>
            <p:ph type="sldNum" idx="6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30F55-86E7-4BE0-A3CF-29459C3D7469}" type="slidenum">
              <a:rPr b="0" lang="sl-SI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TextBox 7"/>
          <p:cNvSpPr/>
          <p:nvPr/>
        </p:nvSpPr>
        <p:spPr>
          <a:xfrm>
            <a:off x="961920" y="708120"/>
            <a:ext cx="19573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700" spc="-1" strike="noStrike">
                <a:solidFill>
                  <a:srgbClr val="ffffff"/>
                </a:solidFill>
                <a:latin typeface="Republika"/>
                <a:ea typeface="Republika"/>
              </a:rPr>
              <a:t>REPUBLIC OF SLOVENI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Republika"/>
                <a:ea typeface="Republika"/>
              </a:rPr>
              <a:t>MINISTRY OF AGRICULTURE</a:t>
            </a:r>
            <a:r>
              <a:rPr b="1" lang="sl-SI" sz="700" spc="-1" strike="noStrike">
                <a:solidFill>
                  <a:srgbClr val="ffffff"/>
                </a:solidFill>
                <a:latin typeface="Republika"/>
                <a:ea typeface="Republika"/>
              </a:rPr>
              <a:t> AND ENVIRONMEN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5" name="Picture 9" descr="grb moder za 10 pt.wmf"/>
          <p:cNvPicPr/>
          <p:nvPr/>
        </p:nvPicPr>
        <p:blipFill>
          <a:blip r:embed="rId3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E69AF-6120-42E7-A6FD-EED5073C496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Rectangle 6"/>
          <p:cNvSpPr/>
          <p:nvPr/>
        </p:nvSpPr>
        <p:spPr>
          <a:xfrm>
            <a:off x="4140360" y="6426360"/>
            <a:ext cx="610920" cy="431640"/>
          </a:xfrm>
          <a:prstGeom prst="rect">
            <a:avLst/>
          </a:prstGeom>
          <a:solidFill>
            <a:srgbClr val="afc551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BE" sz="600" spc="-1" strike="noStrike">
                <a:solidFill>
                  <a:srgbClr val="ffffff"/>
                </a:solidFill>
                <a:latin typeface="Verdana"/>
              </a:rPr>
              <a:t>Health an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BE" sz="600" spc="-1" strike="noStrike">
                <a:solidFill>
                  <a:srgbClr val="ffffff"/>
                </a:solidFill>
                <a:latin typeface="Verdana"/>
              </a:rPr>
              <a:t>Consumer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9" name="Group 15"/>
          <p:cNvGrpSpPr/>
          <p:nvPr/>
        </p:nvGrpSpPr>
        <p:grpSpPr>
          <a:xfrm>
            <a:off x="3849840" y="258840"/>
            <a:ext cx="1436400" cy="1004760"/>
            <a:chOff x="3849840" y="258840"/>
            <a:chExt cx="1436400" cy="1004760"/>
          </a:xfrm>
        </p:grpSpPr>
        <p:pic>
          <p:nvPicPr>
            <p:cNvPr id="950" name="Picture 8" descr="LOGO CE_Vertical_EN_NEG_quadri_HR"/>
            <p:cNvPicPr/>
            <p:nvPr/>
          </p:nvPicPr>
          <p:blipFill>
            <a:blip r:embed="rId2"/>
            <a:stretch/>
          </p:blipFill>
          <p:spPr>
            <a:xfrm>
              <a:off x="3849840" y="258840"/>
              <a:ext cx="1436400" cy="100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1" name="Rectangle 13"/>
            <p:cNvSpPr/>
            <p:nvPr/>
          </p:nvSpPr>
          <p:spPr>
            <a:xfrm>
              <a:off x="4141800" y="1222200"/>
              <a:ext cx="622440" cy="36720"/>
            </a:xfrm>
            <a:prstGeom prst="rect">
              <a:avLst/>
            </a:prstGeom>
            <a:solidFill>
              <a:srgbClr val="afc5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 type="dt" idx="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3DBCA-2EEB-4B3F-B850-7003BA836FC2}" type="datetime">
              <a:rPr b="0" lang="it-IT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 type="ftr" idx="6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5"/>
          <p:cNvSpPr>
            <a:spLocks noGrp="1"/>
          </p:cNvSpPr>
          <p:nvPr>
            <p:ph type="sldNum" idx="6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75805-CCF4-4480-82EC-D4684A804BA2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Line 7"/>
          <p:cNvSpPr/>
          <p:nvPr/>
        </p:nvSpPr>
        <p:spPr>
          <a:xfrm>
            <a:off x="0" y="260280"/>
            <a:ext cx="9144000" cy="0"/>
          </a:xfrm>
          <a:prstGeom prst="line">
            <a:avLst/>
          </a:prstGeom>
          <a:ln w="12600">
            <a:solidFill>
              <a:srgbClr val="004b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82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4" name="Picture 8" descr="CMYK-medio"/>
          <p:cNvPicPr/>
          <p:nvPr/>
        </p:nvPicPr>
        <p:blipFill>
          <a:blip r:embed="rId2"/>
          <a:stretch/>
        </p:blipFill>
        <p:spPr>
          <a:xfrm>
            <a:off x="4095720" y="115920"/>
            <a:ext cx="951120" cy="407880"/>
          </a:xfrm>
          <a:prstGeom prst="rect">
            <a:avLst/>
          </a:prstGeom>
          <a:ln w="0">
            <a:noFill/>
          </a:ln>
        </p:spPr>
      </p:pic>
      <p:sp>
        <p:nvSpPr>
          <p:cNvPr id="995" name="Rectangle 9"/>
          <p:cNvSpPr/>
          <p:nvPr/>
        </p:nvSpPr>
        <p:spPr>
          <a:xfrm>
            <a:off x="0" y="6742080"/>
            <a:ext cx="9144000" cy="115920"/>
          </a:xfrm>
          <a:prstGeom prst="rect">
            <a:avLst/>
          </a:prstGeom>
          <a:solidFill>
            <a:srgbClr val="004b9c"/>
          </a:solidFill>
          <a:ln w="1908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10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 type="dt" idx="7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A183F-F79F-4A8F-A8CD-38DA08348C03}" type="datetime">
              <a:rPr b="0" lang="it-IT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 type="ftr" idx="7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5"/>
          <p:cNvSpPr>
            <a:spLocks noGrp="1"/>
          </p:cNvSpPr>
          <p:nvPr>
            <p:ph type="sldNum" idx="7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733B9-5E3F-4B08-A564-2F629185DBF4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Line 7"/>
          <p:cNvSpPr/>
          <p:nvPr/>
        </p:nvSpPr>
        <p:spPr>
          <a:xfrm>
            <a:off x="0" y="260280"/>
            <a:ext cx="9144000" cy="0"/>
          </a:xfrm>
          <a:prstGeom prst="line">
            <a:avLst/>
          </a:prstGeom>
          <a:ln w="12600">
            <a:solidFill>
              <a:srgbClr val="004b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82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8" name="Picture 8" descr="CMYK-medio"/>
          <p:cNvPicPr/>
          <p:nvPr/>
        </p:nvPicPr>
        <p:blipFill>
          <a:blip r:embed="rId2"/>
          <a:stretch/>
        </p:blipFill>
        <p:spPr>
          <a:xfrm>
            <a:off x="4095720" y="115920"/>
            <a:ext cx="951120" cy="407880"/>
          </a:xfrm>
          <a:prstGeom prst="rect">
            <a:avLst/>
          </a:prstGeom>
          <a:ln w="0">
            <a:noFill/>
          </a:ln>
        </p:spPr>
      </p:pic>
      <p:sp>
        <p:nvSpPr>
          <p:cNvPr id="1039" name="Rectangle 9"/>
          <p:cNvSpPr/>
          <p:nvPr/>
        </p:nvSpPr>
        <p:spPr>
          <a:xfrm>
            <a:off x="0" y="6742080"/>
            <a:ext cx="9144000" cy="115920"/>
          </a:xfrm>
          <a:prstGeom prst="rect">
            <a:avLst/>
          </a:prstGeom>
          <a:solidFill>
            <a:srgbClr val="004b9c"/>
          </a:solidFill>
          <a:ln w="1908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10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 type="dt" idx="7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9FDEC-AC80-4109-B72F-74E52DDD3817}" type="datetime">
              <a:rPr b="0" lang="it-IT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PlaceHolder 4"/>
          <p:cNvSpPr>
            <a:spLocks noGrp="1"/>
          </p:cNvSpPr>
          <p:nvPr>
            <p:ph type="ftr" idx="7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PlaceHolder 5"/>
          <p:cNvSpPr>
            <a:spLocks noGrp="1"/>
          </p:cNvSpPr>
          <p:nvPr>
            <p:ph type="sldNum" idx="7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E32B6-03D0-4F16-ACE4-7F44E4A74A52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Line 7"/>
          <p:cNvSpPr/>
          <p:nvPr/>
        </p:nvSpPr>
        <p:spPr>
          <a:xfrm>
            <a:off x="0" y="260280"/>
            <a:ext cx="9144000" cy="0"/>
          </a:xfrm>
          <a:prstGeom prst="line">
            <a:avLst/>
          </a:prstGeom>
          <a:ln w="12600">
            <a:solidFill>
              <a:srgbClr val="004b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82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2" name="Picture 8" descr="CMYK-medio"/>
          <p:cNvPicPr/>
          <p:nvPr/>
        </p:nvPicPr>
        <p:blipFill>
          <a:blip r:embed="rId2"/>
          <a:stretch/>
        </p:blipFill>
        <p:spPr>
          <a:xfrm>
            <a:off x="4095720" y="115920"/>
            <a:ext cx="951120" cy="407880"/>
          </a:xfrm>
          <a:prstGeom prst="rect">
            <a:avLst/>
          </a:prstGeom>
          <a:ln w="0">
            <a:noFill/>
          </a:ln>
        </p:spPr>
      </p:pic>
      <p:sp>
        <p:nvSpPr>
          <p:cNvPr id="1083" name="Rectangle 9"/>
          <p:cNvSpPr/>
          <p:nvPr/>
        </p:nvSpPr>
        <p:spPr>
          <a:xfrm>
            <a:off x="0" y="6742080"/>
            <a:ext cx="9144000" cy="115920"/>
          </a:xfrm>
          <a:prstGeom prst="rect">
            <a:avLst/>
          </a:prstGeom>
          <a:solidFill>
            <a:srgbClr val="004b9c"/>
          </a:solidFill>
          <a:ln w="1908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10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PlaceHolder 3"/>
          <p:cNvSpPr>
            <a:spLocks noGrp="1"/>
          </p:cNvSpPr>
          <p:nvPr>
            <p:ph type="dt" idx="7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C894C-661B-4991-ABC9-C8F421195A0E}" type="datetime">
              <a:rPr b="0" lang="it-IT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PlaceHolder 4"/>
          <p:cNvSpPr>
            <a:spLocks noGrp="1"/>
          </p:cNvSpPr>
          <p:nvPr>
            <p:ph type="ftr" idx="7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PlaceHolder 5"/>
          <p:cNvSpPr>
            <a:spLocks noGrp="1"/>
          </p:cNvSpPr>
          <p:nvPr>
            <p:ph type="sldNum" idx="7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DFA34-F77E-4560-9312-7679BAE7889C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Line 7"/>
          <p:cNvSpPr/>
          <p:nvPr/>
        </p:nvSpPr>
        <p:spPr>
          <a:xfrm>
            <a:off x="0" y="260280"/>
            <a:ext cx="9144000" cy="0"/>
          </a:xfrm>
          <a:prstGeom prst="line">
            <a:avLst/>
          </a:prstGeom>
          <a:ln w="12600">
            <a:solidFill>
              <a:srgbClr val="004b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82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6" name="Picture 8" descr="CMYK-medio"/>
          <p:cNvPicPr/>
          <p:nvPr/>
        </p:nvPicPr>
        <p:blipFill>
          <a:blip r:embed="rId2"/>
          <a:stretch/>
        </p:blipFill>
        <p:spPr>
          <a:xfrm>
            <a:off x="4095720" y="115920"/>
            <a:ext cx="951120" cy="407880"/>
          </a:xfrm>
          <a:prstGeom prst="rect">
            <a:avLst/>
          </a:prstGeom>
          <a:ln w="0">
            <a:noFill/>
          </a:ln>
        </p:spPr>
      </p:pic>
      <p:sp>
        <p:nvSpPr>
          <p:cNvPr id="1127" name="Rectangle 9"/>
          <p:cNvSpPr/>
          <p:nvPr/>
        </p:nvSpPr>
        <p:spPr>
          <a:xfrm>
            <a:off x="0" y="6742080"/>
            <a:ext cx="9144000" cy="115920"/>
          </a:xfrm>
          <a:prstGeom prst="rect">
            <a:avLst/>
          </a:prstGeom>
          <a:solidFill>
            <a:srgbClr val="004b9c"/>
          </a:solidFill>
          <a:ln w="1908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10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Rectangle 3"/>
          <p:cNvSpPr/>
          <p:nvPr/>
        </p:nvSpPr>
        <p:spPr>
          <a:xfrm>
            <a:off x="0" y="835200"/>
            <a:ext cx="9180360" cy="6022800"/>
          </a:xfrm>
          <a:prstGeom prst="rect">
            <a:avLst/>
          </a:prstGeom>
          <a:solidFill>
            <a:srgbClr val="42a6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5" name="Picture 6" descr=""/>
          <p:cNvPicPr/>
          <p:nvPr/>
        </p:nvPicPr>
        <p:blipFill>
          <a:blip r:embed="rId2"/>
          <a:stretch/>
        </p:blipFill>
        <p:spPr>
          <a:xfrm>
            <a:off x="4254480" y="6486480"/>
            <a:ext cx="611280" cy="407880"/>
          </a:xfrm>
          <a:prstGeom prst="rect">
            <a:avLst/>
          </a:prstGeom>
          <a:ln w="0">
            <a:noFill/>
          </a:ln>
        </p:spPr>
      </p:pic>
      <p:pic>
        <p:nvPicPr>
          <p:cNvPr id="1166" name="Picture 2" descr=""/>
          <p:cNvPicPr/>
          <p:nvPr/>
        </p:nvPicPr>
        <p:blipFill>
          <a:blip r:embed="rId3"/>
          <a:stretch/>
        </p:blipFill>
        <p:spPr>
          <a:xfrm>
            <a:off x="3649680" y="33480"/>
            <a:ext cx="1814400" cy="1398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Rectangle 6"/>
          <p:cNvSpPr/>
          <p:nvPr/>
        </p:nvSpPr>
        <p:spPr>
          <a:xfrm>
            <a:off x="4140360" y="6426360"/>
            <a:ext cx="610920" cy="431640"/>
          </a:xfrm>
          <a:prstGeom prst="rect">
            <a:avLst/>
          </a:prstGeom>
          <a:solidFill>
            <a:srgbClr val="afc551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BE" sz="600" spc="-1" strike="noStrike">
                <a:solidFill>
                  <a:srgbClr val="ffffff"/>
                </a:solidFill>
                <a:latin typeface="Verdana"/>
              </a:rPr>
              <a:t>Health an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fr-BE" sz="600" spc="-1" strike="noStrike">
                <a:solidFill>
                  <a:srgbClr val="ffffff"/>
                </a:solidFill>
                <a:latin typeface="Verdana"/>
              </a:rPr>
              <a:t>Consumers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5" name="Group 15"/>
          <p:cNvGrpSpPr/>
          <p:nvPr/>
        </p:nvGrpSpPr>
        <p:grpSpPr>
          <a:xfrm>
            <a:off x="3849840" y="258840"/>
            <a:ext cx="1436400" cy="1004760"/>
            <a:chOff x="3849840" y="258840"/>
            <a:chExt cx="1436400" cy="1004760"/>
          </a:xfrm>
        </p:grpSpPr>
        <p:pic>
          <p:nvPicPr>
            <p:cNvPr id="1206" name="Picture 8" descr="LOGO CE_Vertical_EN_NEG_quadri_HR"/>
            <p:cNvPicPr/>
            <p:nvPr/>
          </p:nvPicPr>
          <p:blipFill>
            <a:blip r:embed="rId2"/>
            <a:stretch/>
          </p:blipFill>
          <p:spPr>
            <a:xfrm>
              <a:off x="3849840" y="258840"/>
              <a:ext cx="1436400" cy="100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7" name="Rectangle 13"/>
            <p:cNvSpPr/>
            <p:nvPr/>
          </p:nvSpPr>
          <p:spPr>
            <a:xfrm>
              <a:off x="4141800" y="1222200"/>
              <a:ext cx="622440" cy="36720"/>
            </a:xfrm>
            <a:prstGeom prst="rect">
              <a:avLst/>
            </a:prstGeom>
            <a:solidFill>
              <a:srgbClr val="afc5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8" name="Rectangle 3"/>
          <p:cNvSpPr/>
          <p:nvPr/>
        </p:nvSpPr>
        <p:spPr>
          <a:xfrm>
            <a:off x="0" y="835200"/>
            <a:ext cx="9180360" cy="60228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9" name="Picture 6" descr=""/>
          <p:cNvPicPr/>
          <p:nvPr/>
        </p:nvPicPr>
        <p:blipFill>
          <a:blip r:embed="rId3"/>
          <a:stretch/>
        </p:blipFill>
        <p:spPr>
          <a:xfrm>
            <a:off x="4254480" y="6486480"/>
            <a:ext cx="611280" cy="407880"/>
          </a:xfrm>
          <a:prstGeom prst="rect">
            <a:avLst/>
          </a:prstGeom>
          <a:ln w="0">
            <a:noFill/>
          </a:ln>
        </p:spPr>
      </p:pic>
      <p:pic>
        <p:nvPicPr>
          <p:cNvPr id="1210" name="Picture 2" descr=""/>
          <p:cNvPicPr/>
          <p:nvPr/>
        </p:nvPicPr>
        <p:blipFill>
          <a:blip r:embed="rId4"/>
          <a:stretch/>
        </p:blipFill>
        <p:spPr>
          <a:xfrm>
            <a:off x="3649680" y="33480"/>
            <a:ext cx="1814400" cy="1398600"/>
          </a:xfrm>
          <a:prstGeom prst="rect">
            <a:avLst/>
          </a:prstGeom>
          <a:ln w="0">
            <a:noFill/>
          </a:ln>
        </p:spPr>
      </p:pic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5"/>
    <p:sldLayoutId id="2147484014" r:id="rId6"/>
    <p:sldLayoutId id="2147484015" r:id="rId7"/>
    <p:sldLayoutId id="2147484016" r:id="rId8"/>
    <p:sldLayoutId id="2147484017" r:id="rId9"/>
    <p:sldLayoutId id="2147484018" r:id="rId10"/>
    <p:sldLayoutId id="2147484019" r:id="rId11"/>
    <p:sldLayoutId id="2147484020" r:id="rId12"/>
    <p:sldLayoutId id="2147484021" r:id="rId13"/>
    <p:sldLayoutId id="2147484022" r:id="rId14"/>
    <p:sldLayoutId id="2147484023" r:id="rId15"/>
    <p:sldLayoutId id="2147484024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12408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Lucida Sans"/>
              </a:rPr>
              <a:t>Click to edit the title text format</a:t>
            </a:r>
            <a:endParaRPr b="1" lang="en-US" sz="3200" spc="-1" strike="noStrike">
              <a:solidFill>
                <a:srgbClr val="ffc000"/>
              </a:solidFill>
              <a:latin typeface="Lucida San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bcbcbc"/>
                </a:solidFill>
                <a:latin typeface="Book Antiqua"/>
              </a:rPr>
              <a:t>26.6.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bcbcbc"/>
                </a:solidFill>
                <a:latin typeface="Book Antiqua"/>
              </a:rPr>
              <a:t>EIP Seminar Madr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B10E9-45D9-42CB-8105-FA03B171D1F3}" type="slidenum">
              <a:rPr b="0" lang="sl-SI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Box 7"/>
          <p:cNvSpPr/>
          <p:nvPr/>
        </p:nvSpPr>
        <p:spPr>
          <a:xfrm>
            <a:off x="961920" y="708120"/>
            <a:ext cx="19573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700" spc="-1" strike="noStrike">
                <a:solidFill>
                  <a:srgbClr val="ffffff"/>
                </a:solidFill>
                <a:latin typeface="Republika"/>
                <a:ea typeface="Republika"/>
              </a:rPr>
              <a:t>REPUBLIC OF SLOVENI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Republika"/>
                <a:ea typeface="Republika"/>
              </a:rPr>
              <a:t>MINISTRY OF AGRICULTURE</a:t>
            </a:r>
            <a:r>
              <a:rPr b="1" lang="sl-SI" sz="700" spc="-1" strike="noStrike">
                <a:solidFill>
                  <a:srgbClr val="ffffff"/>
                </a:solidFill>
                <a:latin typeface="Republika"/>
                <a:ea typeface="Republika"/>
              </a:rPr>
              <a:t> AND ENVIRONMEN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9" descr="grb moder za 10 pt.wmf"/>
          <p:cNvPicPr/>
          <p:nvPr/>
        </p:nvPicPr>
        <p:blipFill>
          <a:blip r:embed="rId3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2408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Lucida Sans"/>
              </a:rPr>
              <a:t>Click to edit the title text format</a:t>
            </a:r>
            <a:endParaRPr b="1" lang="en-US" sz="3200" spc="-1" strike="noStrike">
              <a:solidFill>
                <a:srgbClr val="ffc000"/>
              </a:solidFill>
              <a:latin typeface="Lucida San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7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bcbcbc"/>
                </a:solidFill>
                <a:latin typeface="Book Antiqua"/>
              </a:rPr>
              <a:t>26.6.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8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bcbcbc"/>
                </a:solidFill>
                <a:latin typeface="Book Antiqua"/>
              </a:rPr>
              <a:t>EIP Seminar Madr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9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D32FE-76B3-4CFB-A7D1-011B0C1389B2}" type="slidenum">
              <a:rPr b="0" lang="sl-SI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Box 7"/>
          <p:cNvSpPr/>
          <p:nvPr/>
        </p:nvSpPr>
        <p:spPr>
          <a:xfrm>
            <a:off x="961920" y="708120"/>
            <a:ext cx="19573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700" spc="-1" strike="noStrike">
                <a:solidFill>
                  <a:srgbClr val="ffffff"/>
                </a:solidFill>
                <a:latin typeface="Republika"/>
                <a:ea typeface="Republika"/>
              </a:rPr>
              <a:t>REPUBLIC OF SLOVENI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Republika"/>
                <a:ea typeface="Republika"/>
              </a:rPr>
              <a:t>MINISTRY OF AGRICULTURE</a:t>
            </a:r>
            <a:r>
              <a:rPr b="1" lang="sl-SI" sz="700" spc="-1" strike="noStrike">
                <a:solidFill>
                  <a:srgbClr val="ffffff"/>
                </a:solidFill>
                <a:latin typeface="Republika"/>
                <a:ea typeface="Republika"/>
              </a:rPr>
              <a:t> AND ENVIRONMEN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9" descr="grb moder za 10 pt.wmf"/>
          <p:cNvPicPr/>
          <p:nvPr/>
        </p:nvPicPr>
        <p:blipFill>
          <a:blip r:embed="rId3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12408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Lucida Sans"/>
              </a:rPr>
              <a:t>Click to edit the title text format</a:t>
            </a:r>
            <a:endParaRPr b="1" lang="en-US" sz="3200" spc="-1" strike="noStrike">
              <a:solidFill>
                <a:srgbClr val="ffc000"/>
              </a:solidFill>
              <a:latin typeface="Lucida San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0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bcbcbc"/>
                </a:solidFill>
                <a:latin typeface="Book Antiqua"/>
              </a:rPr>
              <a:t>26.6.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1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bcbcbc"/>
                </a:solidFill>
                <a:latin typeface="Book Antiqua"/>
              </a:rPr>
              <a:t>EIP Seminar Madr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2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180C0-366B-4995-8EEC-350DC63B9D4B}" type="slidenum">
              <a:rPr b="0" lang="sl-SI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Box 7"/>
          <p:cNvSpPr/>
          <p:nvPr/>
        </p:nvSpPr>
        <p:spPr>
          <a:xfrm>
            <a:off x="961920" y="708120"/>
            <a:ext cx="19573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700" spc="-1" strike="noStrike">
                <a:solidFill>
                  <a:srgbClr val="ffffff"/>
                </a:solidFill>
                <a:latin typeface="Republika"/>
                <a:ea typeface="Republika"/>
              </a:rPr>
              <a:t>REPUBLIC OF SLOVENI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Republika"/>
                <a:ea typeface="Republika"/>
              </a:rPr>
              <a:t>MINISTRY OF AGRICULTURE</a:t>
            </a:r>
            <a:r>
              <a:rPr b="1" lang="sl-SI" sz="700" spc="-1" strike="noStrike">
                <a:solidFill>
                  <a:srgbClr val="ffffff"/>
                </a:solidFill>
                <a:latin typeface="Republika"/>
                <a:ea typeface="Republika"/>
              </a:rPr>
              <a:t> AND ENVIRONMEN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9" descr="grb moder za 10 pt.wmf"/>
          <p:cNvPicPr/>
          <p:nvPr/>
        </p:nvPicPr>
        <p:blipFill>
          <a:blip r:embed="rId3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12408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Lucida Sans"/>
              </a:rPr>
              <a:t>Click to edit the title text format</a:t>
            </a:r>
            <a:endParaRPr b="1" lang="en-US" sz="3200" spc="-1" strike="noStrike">
              <a:solidFill>
                <a:srgbClr val="ffc000"/>
              </a:solidFill>
              <a:latin typeface="Lucida San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3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bcbcbc"/>
                </a:solidFill>
                <a:latin typeface="Book Antiqua"/>
              </a:rPr>
              <a:t>26.6.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4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bcbcbc"/>
                </a:solidFill>
                <a:latin typeface="Book Antiqua"/>
              </a:rPr>
              <a:t>EIP Seminar Madr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5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B91CE-2F17-4640-BBB1-E967F80B1C5E}" type="slidenum">
              <a:rPr b="0" lang="sl-SI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Box 7"/>
          <p:cNvSpPr/>
          <p:nvPr/>
        </p:nvSpPr>
        <p:spPr>
          <a:xfrm>
            <a:off x="961920" y="708120"/>
            <a:ext cx="19573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700" spc="-1" strike="noStrike">
                <a:solidFill>
                  <a:srgbClr val="ffffff"/>
                </a:solidFill>
                <a:latin typeface="Republika"/>
                <a:ea typeface="Republika"/>
              </a:rPr>
              <a:t>REPUBLIC OF SLOVENI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Republika"/>
                <a:ea typeface="Republika"/>
              </a:rPr>
              <a:t>MINISTRY OF AGRICULTURE</a:t>
            </a:r>
            <a:r>
              <a:rPr b="1" lang="sl-SI" sz="700" spc="-1" strike="noStrike">
                <a:solidFill>
                  <a:srgbClr val="ffffff"/>
                </a:solidFill>
                <a:latin typeface="Republika"/>
                <a:ea typeface="Republika"/>
              </a:rPr>
              <a:t> AND ENVIRONMEN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9" descr="grb moder za 10 pt.wmf"/>
          <p:cNvPicPr/>
          <p:nvPr/>
        </p:nvPicPr>
        <p:blipFill>
          <a:blip r:embed="rId3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12408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Lucida Sans"/>
              </a:rPr>
              <a:t>Click to edit the title text format</a:t>
            </a:r>
            <a:endParaRPr b="1" lang="en-US" sz="3200" spc="-1" strike="noStrike">
              <a:solidFill>
                <a:srgbClr val="ffc000"/>
              </a:solidFill>
              <a:latin typeface="Lucida San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6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bcbcbc"/>
                </a:solidFill>
                <a:latin typeface="Book Antiqua"/>
              </a:rPr>
              <a:t>26.6.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17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bcbcbc"/>
                </a:solidFill>
                <a:latin typeface="Book Antiqua"/>
              </a:rPr>
              <a:t>EIP Seminar Madr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18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C4E62-CD82-435B-90C6-1B4ECC45FBB5}" type="slidenum">
              <a:rPr b="0" lang="sl-SI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Box 7"/>
          <p:cNvSpPr/>
          <p:nvPr/>
        </p:nvSpPr>
        <p:spPr>
          <a:xfrm>
            <a:off x="961920" y="708120"/>
            <a:ext cx="19573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700" spc="-1" strike="noStrike">
                <a:solidFill>
                  <a:srgbClr val="ffffff"/>
                </a:solidFill>
                <a:latin typeface="Republika"/>
                <a:ea typeface="Republika"/>
              </a:rPr>
              <a:t>REPUBLIC OF SLOVENI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Republika"/>
                <a:ea typeface="Republika"/>
              </a:rPr>
              <a:t>MINISTRY OF AGRICULTURE</a:t>
            </a:r>
            <a:r>
              <a:rPr b="1" lang="sl-SI" sz="700" spc="-1" strike="noStrike">
                <a:solidFill>
                  <a:srgbClr val="ffffff"/>
                </a:solidFill>
                <a:latin typeface="Republika"/>
                <a:ea typeface="Republika"/>
              </a:rPr>
              <a:t> AND ENVIRONMEN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9" descr="grb moder za 10 pt.wmf"/>
          <p:cNvPicPr/>
          <p:nvPr/>
        </p:nvPicPr>
        <p:blipFill>
          <a:blip r:embed="rId3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12408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Lucida Sans"/>
              </a:rPr>
              <a:t>Click to edit the title text format</a:t>
            </a:r>
            <a:endParaRPr b="1" lang="en-US" sz="3200" spc="-1" strike="noStrike">
              <a:solidFill>
                <a:srgbClr val="ffc000"/>
              </a:solidFill>
              <a:latin typeface="Lucida San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dt" idx="19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bcbcbc"/>
                </a:solidFill>
                <a:latin typeface="Book Antiqua"/>
              </a:rPr>
              <a:t>26.6.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 type="ftr" idx="20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bcbcbc"/>
                </a:solidFill>
                <a:latin typeface="Book Antiqua"/>
              </a:rPr>
              <a:t>EIP Seminar Madr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 type="sldNum" idx="21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52931-6E0D-44C7-960A-F52D8C445353}" type="slidenum">
              <a:rPr b="0" lang="sl-SI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Box 7"/>
          <p:cNvSpPr/>
          <p:nvPr/>
        </p:nvSpPr>
        <p:spPr>
          <a:xfrm>
            <a:off x="961920" y="708120"/>
            <a:ext cx="19573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700" spc="-1" strike="noStrike">
                <a:solidFill>
                  <a:srgbClr val="ffffff"/>
                </a:solidFill>
                <a:latin typeface="Republika"/>
                <a:ea typeface="Republika"/>
              </a:rPr>
              <a:t>REPUBLIC OF SLOVENI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Republika"/>
                <a:ea typeface="Republika"/>
              </a:rPr>
              <a:t>MINISTRY OF AGRICULTURE</a:t>
            </a:r>
            <a:r>
              <a:rPr b="1" lang="sl-SI" sz="700" spc="-1" strike="noStrike">
                <a:solidFill>
                  <a:srgbClr val="ffffff"/>
                </a:solidFill>
                <a:latin typeface="Republika"/>
                <a:ea typeface="Republika"/>
              </a:rPr>
              <a:t> AND ENVIRONMEN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9" descr="grb moder za 10 pt.wmf"/>
          <p:cNvPicPr/>
          <p:nvPr/>
        </p:nvPicPr>
        <p:blipFill>
          <a:blip r:embed="rId3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12408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Lucida Sans"/>
              </a:rPr>
              <a:t>Click to edit the title text format</a:t>
            </a:r>
            <a:endParaRPr b="1" lang="en-US" sz="3200" spc="-1" strike="noStrike">
              <a:solidFill>
                <a:srgbClr val="ffc000"/>
              </a:solidFill>
              <a:latin typeface="Lucida San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dt" idx="22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bcbcbc"/>
                </a:solidFill>
                <a:latin typeface="Book Antiqua"/>
              </a:rPr>
              <a:t>26.6.20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 type="ftr" idx="23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bcbcbc"/>
                </a:solidFill>
                <a:latin typeface="Book Antiqua"/>
              </a:rPr>
              <a:t>EIP Seminar Madr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 type="sldNum" idx="24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4FF7C-268A-4F03-B999-40112A19C682}" type="slidenum">
              <a:rPr b="0" lang="sl-SI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Box 7"/>
          <p:cNvSpPr/>
          <p:nvPr/>
        </p:nvSpPr>
        <p:spPr>
          <a:xfrm>
            <a:off x="961920" y="708120"/>
            <a:ext cx="195732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700" spc="-1" strike="noStrike">
                <a:solidFill>
                  <a:srgbClr val="ffffff"/>
                </a:solidFill>
                <a:latin typeface="Republika"/>
                <a:ea typeface="Republika"/>
              </a:rPr>
              <a:t>REPUBLIC OF SLOVENI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Republika"/>
                <a:ea typeface="Republika"/>
              </a:rPr>
              <a:t>MINISTRY OF AGRICULTURE</a:t>
            </a:r>
            <a:r>
              <a:rPr b="1" lang="sl-SI" sz="700" spc="-1" strike="noStrike">
                <a:solidFill>
                  <a:srgbClr val="ffffff"/>
                </a:solidFill>
                <a:latin typeface="Republika"/>
                <a:ea typeface="Republika"/>
              </a:rPr>
              <a:t> AND ENVIRONMEN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Picture 9" descr="grb moder za 10 pt.wmf"/>
          <p:cNvPicPr/>
          <p:nvPr/>
        </p:nvPicPr>
        <p:blipFill>
          <a:blip r:embed="rId3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Title 5"/>
          <p:cNvSpPr/>
          <p:nvPr/>
        </p:nvSpPr>
        <p:spPr>
          <a:xfrm>
            <a:off x="0" y="1306440"/>
            <a:ext cx="9207360" cy="13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40" algn="ctr">
              <a:lnSpc>
                <a:spcPct val="10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Verdana"/>
              </a:rPr>
              <a:t>European Innovation Part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Subtitle 6"/>
          <p:cNvSpPr/>
          <p:nvPr/>
        </p:nvSpPr>
        <p:spPr>
          <a:xfrm>
            <a:off x="171360" y="6059520"/>
            <a:ext cx="891072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spcAft>
                <a:spcPts val="14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Directorate General for Agriculture and Rural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Subtitle 6"/>
          <p:cNvSpPr/>
          <p:nvPr/>
        </p:nvSpPr>
        <p:spPr>
          <a:xfrm>
            <a:off x="324000" y="5621400"/>
            <a:ext cx="875808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spcAft>
                <a:spcPts val="147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man Bo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2" name="Picture 1" descr=""/>
          <p:cNvPicPr/>
          <p:nvPr/>
        </p:nvPicPr>
        <p:blipFill>
          <a:blip r:embed="rId1"/>
          <a:stretch/>
        </p:blipFill>
        <p:spPr>
          <a:xfrm>
            <a:off x="3014640" y="2357280"/>
            <a:ext cx="3224160" cy="32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1047240" y="1002960"/>
            <a:ext cx="675324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3366"/>
                </a:solidFill>
                <a:latin typeface="Verdana"/>
              </a:rPr>
              <a:t>Building blocks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54" name="PlaceHolder 2"/>
          <p:cNvSpPr>
            <a:spLocks noGrp="1"/>
          </p:cNvSpPr>
          <p:nvPr>
            <p:ph/>
          </p:nvPr>
        </p:nvSpPr>
        <p:spPr>
          <a:xfrm>
            <a:off x="333000" y="2104560"/>
            <a:ext cx="85726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79480" indent="-343080">
              <a:lnSpc>
                <a:spcPct val="90000"/>
              </a:lnSpc>
              <a:spcAft>
                <a:spcPts val="119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Verdana"/>
              </a:rPr>
              <a:t>Rural Development</a:t>
            </a:r>
            <a:br>
              <a:rPr sz="2000"/>
            </a:br>
            <a:r>
              <a:rPr b="0" lang="en-GB" sz="2000" spc="-1" strike="noStrike">
                <a:solidFill>
                  <a:srgbClr val="003366"/>
                </a:solidFill>
                <a:latin typeface="Verdana"/>
              </a:rPr>
              <a:t>- operational groups</a:t>
            </a:r>
            <a:br>
              <a:rPr sz="2000"/>
            </a:br>
            <a:r>
              <a:rPr b="0" lang="en-GB" sz="2000" spc="-1" strike="noStrike">
                <a:solidFill>
                  <a:srgbClr val="003366"/>
                </a:solidFill>
                <a:latin typeface="Verdana"/>
              </a:rPr>
              <a:t>- EIP network</a:t>
            </a:r>
            <a:br>
              <a:rPr sz="2000"/>
            </a:br>
            <a:r>
              <a:rPr b="0" lang="en-GB" sz="20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879480" indent="-343080">
              <a:lnSpc>
                <a:spcPct val="90000"/>
              </a:lnSpc>
              <a:spcAft>
                <a:spcPts val="119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Verdana"/>
              </a:rPr>
              <a:t>Horizon 2020</a:t>
            </a:r>
            <a:br>
              <a:rPr sz="2000"/>
            </a:br>
            <a:r>
              <a:rPr b="0" lang="en-GB" sz="2000" spc="-1" strike="noStrike">
                <a:solidFill>
                  <a:srgbClr val="003366"/>
                </a:solidFill>
                <a:latin typeface="Verdana"/>
              </a:rPr>
              <a:t>- thematic networks</a:t>
            </a:r>
            <a:br>
              <a:rPr sz="2000"/>
            </a:br>
            <a:r>
              <a:rPr b="0" lang="en-GB" sz="2000" spc="-1" strike="noStrike">
                <a:solidFill>
                  <a:srgbClr val="003366"/>
                </a:solidFill>
                <a:latin typeface="Verdana"/>
              </a:rPr>
              <a:t>- multi actor projects</a:t>
            </a:r>
            <a:br>
              <a:rPr sz="2000"/>
            </a:br>
            <a:r>
              <a:rPr b="0" lang="en-GB" sz="2000" spc="-1" strike="noStrike">
                <a:solidFill>
                  <a:srgbClr val="003366"/>
                </a:solidFill>
                <a:latin typeface="Verdana"/>
              </a:rPr>
              <a:t>- other research formats</a:t>
            </a:r>
            <a:br>
              <a:rPr sz="2000"/>
            </a:br>
            <a:r>
              <a:rPr b="0" lang="en-GB" sz="20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879480" indent="-343080">
              <a:lnSpc>
                <a:spcPct val="90000"/>
              </a:lnSpc>
              <a:spcAft>
                <a:spcPts val="119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Verdana"/>
              </a:rPr>
              <a:t>High Level Steering Board</a:t>
            </a:r>
            <a:br>
              <a:rPr sz="2000"/>
            </a:br>
            <a:r>
              <a:rPr b="0" lang="en-GB" sz="20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879480" indent="-343080">
              <a:lnSpc>
                <a:spcPct val="90000"/>
              </a:lnSpc>
              <a:spcAft>
                <a:spcPts val="119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9194d"/>
                </a:solidFill>
                <a:latin typeface="Verdana"/>
              </a:rPr>
              <a:t>EIP </a:t>
            </a:r>
            <a:r>
              <a:rPr b="0" lang="en-US" sz="2000" spc="-1" strike="noStrike">
                <a:solidFill>
                  <a:srgbClr val="19194d"/>
                </a:solidFill>
                <a:latin typeface="Verdana"/>
              </a:rPr>
              <a:t>≠ funding instrument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1047240" y="1002960"/>
            <a:ext cx="675324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3366"/>
                </a:solidFill>
                <a:latin typeface="Verdana"/>
              </a:rPr>
              <a:t>Rural Development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56" name="PlaceHolder 2"/>
          <p:cNvSpPr>
            <a:spLocks noGrp="1"/>
          </p:cNvSpPr>
          <p:nvPr>
            <p:ph/>
          </p:nvPr>
        </p:nvSpPr>
        <p:spPr>
          <a:xfrm>
            <a:off x="333000" y="2104560"/>
            <a:ext cx="85726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79480" indent="-343080">
              <a:lnSpc>
                <a:spcPct val="90000"/>
              </a:lnSpc>
              <a:spcAft>
                <a:spcPts val="119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Verdana"/>
              </a:rPr>
              <a:t>Guidelines </a:t>
            </a:r>
            <a:br>
              <a:rPr sz="2000"/>
            </a:br>
            <a:r>
              <a:rPr b="0" lang="en-GB" sz="20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879480" indent="-343080">
              <a:lnSpc>
                <a:spcPct val="90000"/>
              </a:lnSpc>
              <a:spcAft>
                <a:spcPts val="119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Verdana"/>
              </a:rPr>
              <a:t>Measure fiche (Article 35)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879480" indent="0" algn="just">
              <a:lnSpc>
                <a:spcPct val="9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879480" indent="-343080">
              <a:lnSpc>
                <a:spcPct val="90000"/>
              </a:lnSpc>
              <a:spcAft>
                <a:spcPts val="119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Verdana"/>
              </a:rPr>
              <a:t>NRN event 'Networking for innovation'</a:t>
            </a:r>
            <a:br>
              <a:rPr sz="2000"/>
            </a:br>
            <a:r>
              <a:rPr b="0" lang="en-GB" sz="2000" spc="-1" strike="noStrike">
                <a:solidFill>
                  <a:srgbClr val="003366"/>
                </a:solidFill>
                <a:latin typeface="Verdana"/>
              </a:rPr>
              <a:t>18-19 March - Ghent</a:t>
            </a:r>
            <a:br>
              <a:rPr sz="2000"/>
            </a:br>
            <a:r>
              <a:rPr b="0" lang="en-GB" sz="20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879480" indent="-343080">
              <a:lnSpc>
                <a:spcPct val="90000"/>
              </a:lnSpc>
              <a:spcAft>
                <a:spcPts val="119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Verdana"/>
              </a:rPr>
              <a:t>Programmes???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257" name="Picture 1" descr=""/>
          <p:cNvPicPr/>
          <p:nvPr/>
        </p:nvPicPr>
        <p:blipFill>
          <a:blip r:embed="rId1"/>
          <a:stretch/>
        </p:blipFill>
        <p:spPr>
          <a:xfrm>
            <a:off x="5386320" y="2087640"/>
            <a:ext cx="2166840" cy="19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1047240" y="1002960"/>
            <a:ext cx="675324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3366"/>
                </a:solidFill>
                <a:latin typeface="Verdana"/>
              </a:rPr>
              <a:t>Horizon 2020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333000" y="2104560"/>
            <a:ext cx="85726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79480" indent="-343080">
              <a:lnSpc>
                <a:spcPct val="90000"/>
              </a:lnSpc>
              <a:spcAft>
                <a:spcPts val="119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Verdana"/>
              </a:rPr>
              <a:t>2014 and 2015 call</a:t>
            </a:r>
            <a:br>
              <a:rPr sz="2000"/>
            </a:br>
            <a:r>
              <a:rPr b="0" lang="en-GB" sz="2000" spc="-1" strike="noStrike">
                <a:solidFill>
                  <a:srgbClr val="003366"/>
                </a:solidFill>
                <a:latin typeface="Verdana"/>
              </a:rPr>
              <a:t>http://ec.europa.eu/agriculture/eip/pdf/fact-sheet-horizon-2020_en.pdf</a:t>
            </a:r>
            <a:br>
              <a:rPr sz="2000"/>
            </a:br>
            <a:r>
              <a:rPr b="0" lang="en-GB" sz="20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879480" indent="-343080">
              <a:lnSpc>
                <a:spcPct val="90000"/>
              </a:lnSpc>
              <a:spcAft>
                <a:spcPts val="119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Verdana"/>
              </a:rPr>
              <a:t>2015 call still tentative</a:t>
            </a:r>
            <a:br>
              <a:rPr sz="2000"/>
            </a:br>
            <a:r>
              <a:rPr b="0" lang="en-GB" sz="20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879480" indent="-343080">
              <a:lnSpc>
                <a:spcPct val="90000"/>
              </a:lnSpc>
              <a:spcAft>
                <a:spcPts val="119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Verdana"/>
              </a:rPr>
              <a:t>Programming cycle 2016-2017</a:t>
            </a:r>
            <a:br>
              <a:rPr sz="2000"/>
            </a:br>
            <a:r>
              <a:rPr b="0" lang="en-GB" sz="20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-360" y="1002960"/>
            <a:ext cx="704844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240" indent="0" algn="ctr">
              <a:buNone/>
              <a:tabLst>
                <a:tab algn="l" pos="0"/>
                <a:tab algn="l" pos="5295960"/>
                <a:tab algn="l" pos="5743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3366"/>
                </a:solidFill>
                <a:latin typeface="Verdana"/>
              </a:rPr>
              <a:t>EIP Service Point</a:t>
            </a:r>
            <a:br>
              <a:rPr sz="2400"/>
            </a:br>
            <a:r>
              <a:rPr b="1" i="1" lang="en-GB" sz="2400" spc="-1" strike="noStrike">
                <a:solidFill>
                  <a:srgbClr val="003366"/>
                </a:solidFill>
                <a:latin typeface="Verdana"/>
              </a:rPr>
              <a:t>Workshops Establishing </a:t>
            </a:r>
            <a:br>
              <a:rPr sz="2400"/>
            </a:br>
            <a:r>
              <a:rPr b="1" i="1" lang="en-GB" sz="2400" spc="-1" strike="noStrike">
                <a:solidFill>
                  <a:srgbClr val="003366"/>
                </a:solidFill>
                <a:latin typeface="Verdana"/>
              </a:rPr>
              <a:t>Operational Groups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/>
          </p:nvPr>
        </p:nvSpPr>
        <p:spPr>
          <a:xfrm>
            <a:off x="104400" y="2114640"/>
            <a:ext cx="857268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536400"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  <a:p>
            <a:pPr lvl="1" marL="536400">
              <a:lnSpc>
                <a:spcPct val="90000"/>
              </a:lnSpc>
              <a:spcAft>
                <a:spcPts val="119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Verdana"/>
              </a:rPr>
              <a:t>27 Feb – Portugal</a:t>
            </a:r>
            <a:br>
              <a:rPr sz="1600"/>
            </a:br>
            <a:r>
              <a:rPr b="0" lang="en-GB" sz="1600" spc="-1" strike="noStrike">
                <a:solidFill>
                  <a:srgbClr val="003366"/>
                </a:solidFill>
                <a:latin typeface="Verdana"/>
              </a:rPr>
              <a:t>Cyprus, Greece, Malta, Portugal, Spain</a:t>
            </a: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1" marL="536400">
              <a:lnSpc>
                <a:spcPct val="90000"/>
              </a:lnSpc>
              <a:spcAft>
                <a:spcPts val="119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Verdana"/>
              </a:rPr>
              <a:t>25-26 March – Slovenia</a:t>
            </a:r>
            <a:br>
              <a:rPr sz="1600"/>
            </a:br>
            <a:r>
              <a:rPr b="0" lang="en-GB" sz="1600" spc="-1" strike="noStrike">
                <a:solidFill>
                  <a:srgbClr val="003366"/>
                </a:solidFill>
                <a:latin typeface="Verdana"/>
              </a:rPr>
              <a:t>Austria, Croatia, Germany, Hungary, Slovenia</a:t>
            </a: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1" marL="536400">
              <a:lnSpc>
                <a:spcPct val="90000"/>
              </a:lnSpc>
              <a:spcAft>
                <a:spcPts val="119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Verdana"/>
              </a:rPr>
              <a:t>2-3 April – Estonia</a:t>
            </a:r>
            <a:br>
              <a:rPr sz="1600"/>
            </a:br>
            <a:r>
              <a:rPr b="0" lang="en-GB" sz="1600" spc="-1" strike="noStrike">
                <a:solidFill>
                  <a:srgbClr val="003366"/>
                </a:solidFill>
                <a:latin typeface="Verdana"/>
              </a:rPr>
              <a:t>Denmark, Estonia, Finland, Latvia, Lithuania, Poland, Sweden</a:t>
            </a: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1" marL="536400">
              <a:lnSpc>
                <a:spcPct val="90000"/>
              </a:lnSpc>
              <a:spcAft>
                <a:spcPts val="119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Verdana"/>
              </a:rPr>
              <a:t>May – Czech Republic</a:t>
            </a:r>
            <a:br>
              <a:rPr sz="1600"/>
            </a:br>
            <a:r>
              <a:rPr b="0" lang="en-GB" sz="1600" spc="-1" strike="noStrike">
                <a:solidFill>
                  <a:srgbClr val="003366"/>
                </a:solidFill>
                <a:latin typeface="Verdana"/>
              </a:rPr>
              <a:t>Bulgaria, Czech Republic, Ireland, Netherlands, Slovakia, United Kingdom</a:t>
            </a: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1" marL="536400">
              <a:lnSpc>
                <a:spcPct val="90000"/>
              </a:lnSpc>
              <a:spcAft>
                <a:spcPts val="119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Verdana"/>
              </a:rPr>
              <a:t>May – France</a:t>
            </a:r>
            <a:br>
              <a:rPr sz="1600"/>
            </a:br>
            <a:r>
              <a:rPr b="0" lang="en-GB" sz="1600" spc="-1" strike="noStrike">
                <a:solidFill>
                  <a:srgbClr val="003366"/>
                </a:solidFill>
                <a:latin typeface="Verdana"/>
              </a:rPr>
              <a:t>Belgium, France, Italy, Luxemburg, Romania</a:t>
            </a:r>
            <a:br>
              <a:rPr sz="1600"/>
            </a:br>
            <a:r>
              <a:rPr b="0" lang="en-GB" sz="16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  <a:p>
            <a:pPr lvl="1" marL="536400"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262" name="Picture 6" descr=""/>
          <p:cNvPicPr/>
          <p:nvPr/>
        </p:nvPicPr>
        <p:blipFill>
          <a:blip r:embed="rId1"/>
          <a:stretch/>
        </p:blipFill>
        <p:spPr>
          <a:xfrm>
            <a:off x="6454800" y="828720"/>
            <a:ext cx="2432160" cy="34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1047240" y="1002960"/>
            <a:ext cx="675324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3366"/>
                </a:solidFill>
                <a:latin typeface="Verdana"/>
              </a:rPr>
              <a:t>EIP Service Point</a:t>
            </a:r>
            <a:br>
              <a:rPr sz="2400"/>
            </a:br>
            <a:r>
              <a:rPr b="1" i="1" lang="en-GB" sz="2400" spc="-1" strike="noStrike">
                <a:solidFill>
                  <a:srgbClr val="003366"/>
                </a:solidFill>
                <a:latin typeface="Verdana"/>
              </a:rPr>
              <a:t>Focus Groups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333000" y="2104560"/>
            <a:ext cx="85726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f5494"/>
                </a:solidFill>
                <a:latin typeface="Verdana"/>
              </a:rPr>
              <a:t>To be launched in March: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f5494"/>
                </a:solidFill>
                <a:latin typeface="Verdana"/>
              </a:rPr>
              <a:t>- High Nature Value (HNV) farming profitability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f5494"/>
                </a:solidFill>
                <a:latin typeface="Verdana"/>
              </a:rPr>
              <a:t>- Precision farming 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f5494"/>
                </a:solidFill>
                <a:latin typeface="Verdana"/>
              </a:rPr>
              <a:t>- Profitability of permanent grassland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f5494"/>
                </a:solidFill>
                <a:latin typeface="Verdana"/>
              </a:rPr>
              <a:t>- Fertiliser efficiency – focus on open field horticulture 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f5494"/>
                </a:solidFill>
                <a:latin typeface="Verdana"/>
              </a:rPr>
              <a:t> 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f5494"/>
                </a:solidFill>
                <a:latin typeface="Verdana"/>
              </a:rPr>
              <a:t>To be launched in the second half of 2014: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f5494"/>
                </a:solidFill>
                <a:latin typeface="Verdana"/>
              </a:rPr>
              <a:t>- Optimising yields through ecological focus areas  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f5494"/>
                </a:solidFill>
                <a:latin typeface="Verdana"/>
              </a:rPr>
              <a:t>- Alternative/ innovative supply chains </a:t>
            </a:r>
            <a:br>
              <a:rPr sz="1600"/>
            </a:br>
            <a:r>
              <a:rPr b="0" i="1" lang="en-GB" sz="1600" spc="-1" strike="noStrike">
                <a:solidFill>
                  <a:srgbClr val="0f5494"/>
                </a:solidFill>
                <a:latin typeface="Verdana"/>
              </a:rPr>
              <a:t>- IPM practices for soil disease suppression</a:t>
            </a:r>
            <a:br>
              <a:rPr sz="1600"/>
            </a:br>
            <a:r>
              <a:rPr b="0" i="1" lang="en-GB" sz="16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3366"/>
                </a:solidFill>
                <a:latin typeface="Verdana"/>
              </a:rPr>
              <a:t>Subscribe to newsletter: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3366"/>
                </a:solidFill>
                <a:latin typeface="Verdana"/>
              </a:rPr>
              <a:t>http://ec.europa.eu/agriculture/eip/newsletters/index_en.htm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265" name="Picture 6" descr=""/>
          <p:cNvPicPr/>
          <p:nvPr/>
        </p:nvPicPr>
        <p:blipFill>
          <a:blip r:embed="rId1"/>
          <a:stretch/>
        </p:blipFill>
        <p:spPr>
          <a:xfrm>
            <a:off x="6454800" y="828720"/>
            <a:ext cx="2432160" cy="34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1047240" y="1002960"/>
            <a:ext cx="675324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3366"/>
                </a:solidFill>
                <a:latin typeface="Verdana"/>
              </a:rPr>
              <a:t>EIP Service Point</a:t>
            </a:r>
            <a:br>
              <a:rPr sz="2400"/>
            </a:br>
            <a:r>
              <a:rPr b="1" i="1" lang="en-GB" sz="2400" spc="-1" strike="noStrike">
                <a:solidFill>
                  <a:srgbClr val="003366"/>
                </a:solidFill>
                <a:latin typeface="Verdana"/>
              </a:rPr>
              <a:t>Focus Groups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333000" y="2104560"/>
            <a:ext cx="85726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f5494"/>
                </a:solidFill>
                <a:latin typeface="Verdana"/>
              </a:rPr>
              <a:t>Existing focus groups – Follow up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f5494"/>
                </a:solidFill>
                <a:latin typeface="Verdana"/>
              </a:rPr>
              <a:t>- Organic farming (optimising arable yields)</a:t>
            </a:r>
            <a:br>
              <a:rPr sz="1600"/>
            </a:br>
            <a:br>
              <a:rPr sz="1600"/>
            </a:br>
            <a:r>
              <a:rPr b="0" i="1" lang="en-GB" sz="1600" spc="-1" strike="noStrike">
                <a:solidFill>
                  <a:srgbClr val="0f5494"/>
                </a:solidFill>
                <a:latin typeface="Verdana"/>
              </a:rPr>
              <a:t>- Protein crops</a:t>
            </a:r>
            <a:br>
              <a:rPr sz="1600"/>
            </a:br>
            <a:br>
              <a:rPr sz="1600"/>
            </a:br>
            <a:r>
              <a:rPr b="0" i="1" lang="en-GB" sz="1600" spc="-1" strike="noStrike">
                <a:solidFill>
                  <a:srgbClr val="0f5494"/>
                </a:solidFill>
                <a:latin typeface="Verdana"/>
              </a:rPr>
              <a:t>- Animal husbandry (anti-biotic use in pigs)</a:t>
            </a:r>
            <a:br>
              <a:rPr sz="1600"/>
            </a:br>
            <a:br>
              <a:rPr sz="1600"/>
            </a:br>
            <a:r>
              <a:rPr b="0" i="1" lang="en-GB" sz="1600" spc="-1" strike="noStrike">
                <a:solidFill>
                  <a:srgbClr val="0f5494"/>
                </a:solidFill>
                <a:latin typeface="Verdana"/>
              </a:rPr>
              <a:t>- Genetic resources</a:t>
            </a:r>
            <a:br>
              <a:rPr sz="1600"/>
            </a:br>
            <a:br>
              <a:rPr sz="1600"/>
            </a:br>
            <a:r>
              <a:rPr b="0" i="1" lang="en-GB" sz="1600" spc="-1" strike="noStrike">
                <a:solidFill>
                  <a:srgbClr val="0f5494"/>
                </a:solidFill>
                <a:latin typeface="Verdana"/>
              </a:rPr>
              <a:t>- Organic matter content of Mediterranean soils</a:t>
            </a:r>
            <a:br>
              <a:rPr sz="1600"/>
            </a:br>
            <a:br>
              <a:rPr sz="1600"/>
            </a:br>
            <a:r>
              <a:rPr b="0" i="1" lang="en-GB" sz="1600" spc="-1" strike="noStrike">
                <a:solidFill>
                  <a:srgbClr val="0f5494"/>
                </a:solidFill>
                <a:latin typeface="Verdana"/>
              </a:rPr>
              <a:t>- Integrated pest management (IPM) in Brassica species </a:t>
            </a:r>
            <a:br>
              <a:rPr sz="1600"/>
            </a:br>
            <a:r>
              <a:rPr b="0" i="1" lang="en-GB" sz="1600" spc="-1" strike="noStrike">
                <a:solidFill>
                  <a:srgbClr val="0f5494"/>
                </a:solidFill>
                <a:latin typeface="Verdana"/>
              </a:rPr>
              <a:t> 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268" name="Picture 6" descr=""/>
          <p:cNvPicPr/>
          <p:nvPr/>
        </p:nvPicPr>
        <p:blipFill>
          <a:blip r:embed="rId1"/>
          <a:stretch/>
        </p:blipFill>
        <p:spPr>
          <a:xfrm>
            <a:off x="6454800" y="828720"/>
            <a:ext cx="2432160" cy="34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1047240" y="1002960"/>
            <a:ext cx="675324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3366"/>
                </a:solidFill>
                <a:latin typeface="Verdana"/>
              </a:rPr>
              <a:t>AGRI - reorganisation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70" name="PlaceHolder 2"/>
          <p:cNvSpPr>
            <a:spLocks noGrp="1"/>
          </p:cNvSpPr>
          <p:nvPr>
            <p:ph/>
          </p:nvPr>
        </p:nvSpPr>
        <p:spPr>
          <a:xfrm>
            <a:off x="352440" y="2790360"/>
            <a:ext cx="85723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79480" indent="-343080">
              <a:lnSpc>
                <a:spcPct val="90000"/>
              </a:lnSpc>
              <a:spcAft>
                <a:spcPts val="119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Verdana"/>
              </a:rPr>
              <a:t>Unit H5 – Research and Innovation</a:t>
            </a:r>
            <a:br>
              <a:rPr sz="2000"/>
            </a:br>
            <a:br>
              <a:rPr sz="2000"/>
            </a:br>
            <a:r>
              <a:rPr b="0" lang="en-GB" sz="2000" spc="-1" strike="noStrike">
                <a:solidFill>
                  <a:srgbClr val="003366"/>
                </a:solidFill>
                <a:latin typeface="Verdana"/>
              </a:rPr>
              <a:t>- EIP </a:t>
            </a:r>
            <a:br>
              <a:rPr sz="2000"/>
            </a:br>
            <a:r>
              <a:rPr b="0" lang="en-GB" sz="2000" spc="-1" strike="noStrike">
                <a:solidFill>
                  <a:srgbClr val="003366"/>
                </a:solidFill>
                <a:latin typeface="Verdana"/>
              </a:rPr>
              <a:t>- Horizon 2020: Societal Challenge 2</a:t>
            </a:r>
            <a:br>
              <a:rPr sz="2000"/>
            </a:br>
            <a:r>
              <a:rPr b="0" lang="en-GB" sz="2000" spc="-1" strike="noStrike">
                <a:solidFill>
                  <a:srgbClr val="003366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/>
          </p:nvPr>
        </p:nvSpPr>
        <p:spPr>
          <a:xfrm>
            <a:off x="610920" y="1142640"/>
            <a:ext cx="8180280" cy="53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Verdana"/>
              </a:rPr>
              <a:t>More info: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Verdana"/>
              </a:rPr>
              <a:t>Rural developmen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Verdana"/>
              </a:rPr>
              <a:t>http://ec.europa.eu/agriculture/eip/pdf/draft-eip-guidelines_en.pdf</a:t>
            </a:r>
            <a:br>
              <a:rPr sz="1600"/>
            </a:br>
            <a:r>
              <a:rPr b="1" i="1" lang="en-GB" sz="1600" spc="-1" strike="noStrike">
                <a:solidFill>
                  <a:srgbClr val="000000"/>
                </a:solidFill>
                <a:latin typeface="Verdana"/>
              </a:rPr>
              <a:t>(outdated)</a:t>
            </a:r>
            <a:br>
              <a:rPr sz="1600"/>
            </a:b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Verdana"/>
              </a:rPr>
              <a:t>Horizon 2020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Verdana"/>
              </a:rPr>
              <a:t>http://ec.europa.eu/agriculture/eip/events/eip-research-workshop-2014_en.htm</a:t>
            </a:r>
            <a:br>
              <a:rPr sz="1600"/>
            </a:b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Verdana"/>
              </a:rPr>
              <a:t>EIP Service Poin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 u="sng">
                <a:solidFill>
                  <a:srgbClr val="000000"/>
                </a:solidFill>
                <a:uFillTx/>
                <a:latin typeface="Verdana"/>
              </a:rPr>
              <a:t>http://ec.europa.eu/agriculture/eip/ 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3366"/>
                </a:solidFill>
                <a:latin typeface="Verdana"/>
              </a:rPr>
              <a:t>iman.boot@ec.europa.eu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25T11:01:36Z</dcterms:created>
  <dc:creator>Ina Van Hoye</dc:creator>
  <dc:description/>
  <dc:language>en-US</dc:language>
  <cp:lastModifiedBy>Clemens von Doderer</cp:lastModifiedBy>
  <cp:lastPrinted>2014-02-26T08:06:25Z</cp:lastPrinted>
  <dcterms:modified xsi:type="dcterms:W3CDTF">2014-02-26T13:39:36Z</dcterms:modified>
  <cp:revision>64</cp:revision>
  <dc:subject/>
  <dc:title>PowerPoint-presentatie</dc:title>
</cp:coreProperties>
</file>